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706-AFBB-4CB2-9D41-25F402208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9D6D-1136-4397-9708-75878125C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0499-4A2B-49CD-9AEA-88950B35E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F9A5-F720-42CB-9318-2A1C9F308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515C-165D-4CAE-B73E-F29253834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3304-CE0A-4AA7-B651-4CA2357AE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D2B8-D22E-461F-9BC9-149A8EC7D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AB0A-F750-4B60-94BA-F904AD95D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D289-B593-4D15-A836-4C888E54C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3A4F-5B17-425B-82FC-FCC1F2102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8274-8680-4B0E-B236-5C429E605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0096-52D5-41A4-8EA7-84C067EA8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B3CD-DAB6-497A-9A21-0AF5B6E4C64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sourceforge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2049-D2E4-47C3-A700-56D59CCB93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275A-7400-4350-B013-4EA498589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B17F-CE5A-4483-BEBB-8657968E9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01C-645B-40D8-8188-59799D4DD3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6483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67C6-77E1-4924-803C-4E86D8245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2B75-92CF-457B-B977-3839A9E21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7A3A-1160-4AAB-869E-04C0FA0BA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7158-299C-46AB-BBAD-C351A01E8B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80EA-BBA6-4F65-A10F-9235714749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5734-10E2-4954-9FBF-D0A93CA527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C664-87A7-4123-9648-F446CC001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three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9CAD-E820-4787-862E-6C81638C68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FCE4-CC50-46BD-B0BE-BD6F7AF839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B319-36F3-469B-85EA-CDEB68F8B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B604-2164-4147-B2F4-D9C7F8942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6FE2-C29D-40B5-9986-D611A85D3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270F-9573-458F-8E4E-4039FBEF9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AB05-382B-4956-995A-18111F2C0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E4C8-0EA1-45B8-AF85-0D9A99C5E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C69D-DE5E-4E5C-95C4-FC77D121A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Erik Dörnenburg</cp:lastModifiedBy>
  <dcterms:modified xsi:type="dcterms:W3CDTF">2003-12-17T00:30:56Z</dcterms:modified>
  <cp:revision>68</cp:revision>
  <dc:subject/>
  <dc:title>Neo Architecture and Implementation</dc:title>
</cp:coreProperties>
</file>