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A26F-C092-48BC-BB02-A1A7BFC08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0CEC-D7D1-43B1-8C0C-9C5E29560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3363-A5B9-4F72-90BC-5AC6EF39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BEB6-44C1-46E4-AB47-C60DBBB7E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7B00-A981-45EA-B4BD-2590E9021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10B3-751E-485E-B864-A0E1A78A0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87A8-9D9B-4D6A-BC28-BDAAAD995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AB0A-6F68-4F59-AAC6-868F5A5B6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7025-8A69-4AF1-8789-DF7C46E70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A796-AC26-4C3B-8D68-3039F16B7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D173-806D-45AA-809B-94B4905A2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9B12-996B-4573-A8F8-69832F3FE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690-C4B5-4A33-A976-E9C3610A00AE}" type="slidenum">
              <a:rPr b="1" lang="en-GB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sourceforge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Qualifie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Haruki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6BC0-02F4-4050-9ACC-1FE528ACE7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Qualifie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2ABB-0CEE-4997-8F85-4A14FA7EE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CCDE-6A89-4ADA-AD82-10A3DB6F5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it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C884-232A-4E23-9AFE-A72569284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Source file containing base classes, factories etc.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8389-E818-4444-BFBE-2DE28FE8B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F8A-74AF-405E-B2A5-177BE69BD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D22D-D818-4C98-8245-5D1FB05E5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Propert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Haruki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A9AF-8482-4197-950A-4A7651D50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Derived Propert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proper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Haruki Murakami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0CC2-83E7-4AC8-B116-B103FFBBA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AC33-4360-4615-AAF9-B4781FE84D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BD44-95B5-4F46-85A1-C4B9ACA6D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CRUD,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7B67-94D9-48CC-80AE-5474F8952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E6BE-6C87-4237-9B96-B9BC34AB6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: 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Haruki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8943-AF80-40DD-B43C-8130CD1717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Erik Dörnenburg</cp:lastModifiedBy>
  <dcterms:modified xsi:type="dcterms:W3CDTF">2003-12-17T00:47:54Z</dcterms:modified>
  <cp:revision>76</cp:revision>
  <dc:subject/>
  <dc:title>Neo Design Goals</dc:title>
</cp:coreProperties>
</file>