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937C9-0E1F-465A-B5EB-EF92FF6728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943C1-A6F2-4D17-82E5-B782FE260A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EF251-1D86-4F1C-AE92-7162531CC2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CF116-4596-47F8-A846-1923A00707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7739A-DCE3-4BB3-A931-F9DD205FA1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B3DB0-64CA-4E25-9D79-3D41D4FA7C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C3346-D9D7-41E8-A3EE-3C405DD016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43DF6-0043-45AD-B180-542F461686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920" y="22824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37911-908D-4075-A9F4-561EF33DD2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5D6C4-D56D-4C3C-BA17-DD2819557E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58176-4F20-4A53-BB1B-B0985EB31F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9F57D-70EF-42D2-AECE-28EF6618FB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762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52280"/>
            <a:ext cx="106704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150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620120" y="228240"/>
            <a:ext cx="1218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FDBD-EA6D-4E4A-B603-12FE123B0717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19692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Impact"/>
              </a:rPr>
              <a:t>N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.NET Entity Objec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http://neo.sourceforge.ne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Patterns and Best Practi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61356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Verdana"/>
              </a:rPr>
              <a:t>Copyright © 2002-2003 Erik Dörnenburg – Last updated: October 20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ide custom qu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3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ption 3: Use internal relation and handwrite loop with comparison; improved performance over option 2 but slightly more cod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Publishe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TitleList GetTitlesWithMinRoyalty(int 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List l = new TitleLis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each(Title t in this.Titl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(t.Royalty &gt; r) l.Add(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3B6FB-9E62-46A0-9310-1CA5020A88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ide transparent many-to-man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3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ask: Given a title find all its auth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lution: Add a method to Tit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Title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AuthorList GetAuthors(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uthorList l = new AuthorList 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each(TitleAuthor ta in this.TitleAutho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.Add(ta.Autho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8820E-0103-4AFF-B497-CE8ADC2F28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ide transparent many-to-man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lution: Add a method to author and/or tit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Autho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AddToTitle(Title title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AuthorFactory f = new Title…(Contex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Author ta = f.CreateObject(title, this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Title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AddAuthor(Author author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AuthorFactory f = new Title…(Contex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Author ta = f.CreateObject(this, autho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F3B4A-0549-46EB-92E6-0601CD8289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ntityMap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e entity maps sparingly and access through contex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EntityMapFactory f = context.EntityMapFactor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EntityMap map = f.GetMap(typeof(Title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85A46-17A0-4E5A-BB37-DF18C65AA9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Aft>
                <a:spcPts val="1500"/>
              </a:spcAft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protected rel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Aft>
                <a:spcPts val="1500"/>
              </a:spcAft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custom que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Aft>
                <a:spcPts val="1500"/>
              </a:spcAft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transparent many-to-many rel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Aft>
                <a:spcPts val="1500"/>
              </a:spcAft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entity maps sparing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50A24-49F3-4CCD-98B6-C6DC8AE9A8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protected relation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3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ask: Given a publisher find all its tit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orst case: Implementation using factories directly in code-behind or some controll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MyController.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Factory f = new TitleFactory(myContex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List l = f.Find("Publisher = {0}", pub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79E38-6CB9-440E-86C2-35C4EF8B38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protected relation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3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rovement 1: Declare an iref in schema and use public rel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MyControlle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Relation l = pub.Titl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a copy if 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MyControlle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List l = new TitleList(pub.Titles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3B6B5-115D-4730-9137-C8F7A710FD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protected relation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3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rovement 2: Make relation protected (in the template for base classes) and provide access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Publisher.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TitleList GetTitles(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new TitleList(this.Titles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AddTitle(Title aTitle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is.Titles.Add(aTitl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MyControlle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List l = pub.GetTitle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14E8B-949A-4EA6-8339-8027C20B80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ide custom qu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3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ask: Given a publisher find all its titles with additional criter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orst case: Implementation using qualifiers directly in code-behind or some controll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MyControlle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Factory f = new TitleFactory(myContex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List l = f.Find("Publisher = {0}" +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"and Royalties &gt; 1000", pub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01C0A-F02A-4B32-BB03-294DE2C42B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ide custom qu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3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rovement 1: Move code into entity objec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Publishe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TitleList GetTitlesWithMinRoyalty(int 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 several options *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MyControlle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 = pub.GetTitlesWithMinRoyalty(1000);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310AA-9FBE-4D17-9AA4-5516B94EB5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ide custom qu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3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ption 1: Move query as 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Publishe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TitleList GetTitlesWithMinRoyalty(int 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Factory f = new TitleFactory(Contex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List l = f.Find("Publisher = {0}" +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"and Royalty &gt; {1}", this, 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667B3-2AD9-49D2-953B-04B64D4502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ide custom qu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ption 2: Use internal relation; elegant and caching behaviour but has to bring all titles for publisher into mem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Publishe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TitleList GetTitlesWithMinRoyalty(int 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this.Titles.Find("Royalties &gt; {0}", 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A537F-59CC-4BC9-A9C7-BD26F13A83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17:55:34Z</dcterms:created>
  <dc:creator>Erik Dörnenburg</dc:creator>
  <dc:description/>
  <dc:language>en-US</dc:language>
  <cp:lastModifiedBy>Erik Dörnenburg</cp:lastModifiedBy>
  <dcterms:modified xsi:type="dcterms:W3CDTF">2003-12-17T01:00:35Z</dcterms:modified>
  <cp:revision>78</cp:revision>
  <dc:subject/>
  <dc:title>Neo Patterns and Best Practices</dc:title>
</cp:coreProperties>
</file>