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082C2-8373-4AAE-8346-68BCD54ED2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B3D97-753F-4A07-A86E-344B2E12D5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890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3FB87-107E-4C0E-B2FD-AB41065042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1426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1426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890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890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20CF5-8652-43A7-B20A-80BBBBE437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D82C7-ACD8-49AE-B985-E5D2AACDAB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A1DF5-66B1-473F-8F60-FA997B5F44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6F957-8AB2-4D99-8B1F-5BDC8B3C37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676BD-BB91-4949-B12D-EEAE9E8E69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47920" y="22824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01A4D-B5D2-401B-80FD-6F131E52D5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53A48-78B7-49B9-8F05-5E93B9F55A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890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B315F-6418-4F06-9577-1D13234A4D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B9DAB-FBE8-4B71-8D43-B9F6D3FB22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7621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52280"/>
            <a:ext cx="106704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150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620120" y="228240"/>
            <a:ext cx="1218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20D4E-8835-40FC-AAA6-D4C1E42C2ED5}" type="slidenum">
              <a:rPr b="1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19692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66"/>
                </a:solidFill>
                <a:latin typeface="Impact"/>
              </a:rPr>
              <a:t>Ne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09480" y="1219320"/>
            <a:ext cx="78487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.NET Entity Objec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http://neo.codehaus.or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Design Goal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613560"/>
            <a:ext cx="914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Verdana"/>
              </a:rPr>
              <a:t>Copyright © 2002-2004 Erik Dörnenburg – Last updated: May 2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ery Templat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actories can create a query template that has the same properties as the corresponding entity object, including to-one relationshi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emplate = authorFactory.GetQueryTemplat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emplate.FirstName = "Neal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emplate = titleFactory.GetQueryTemplat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emplate.Publisher = aPublish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actories can find all objects matching the templ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s = factory.FindMatchingObjects(templat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99C04-DDA5-47D7-A81A-DE552762779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fiers (Creation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lifiers define criteria for selections. They are normally constructed using format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q = Qualifier.Format("name = {0}", inpu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ormats can use inlined values and comprise multiple claus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q = Qualifier.Format("name = 'Neal'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q = … ("name = {0} and locked = false", inpu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ormats provide a shortcut for simple match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q = new Qualifier.Format("Name", inpu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ormats can include property path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q = new Qualifier.Format("Publisher.Name", n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1A108-3E69-433B-A493-3B0100E1CB4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fiers (Usage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actories use qualifier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uthorFactory f = new AuthorFactory( … 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uthorList list = f.Find("Name = {0}", inpu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o do collections and relation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ublist = list.Find("Advance &lt; 5000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ublist = publisher.Titles.Find( … 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lifiers can also evaluate whether an object matches their criteri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(q.EvaluateWithObject(anAuthor)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oSomething(anAuthor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1A88C-7903-476F-95E3-A1FB425BB0F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lete mod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etNull deletes behave as expec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Title = thePublisher.Titles[0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hePublisher.Delete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(aTitle.Publisher == nul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nsole.WriteLine("It just works!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ascading deletes are supported and the last line in the following example will cause an exception to be throw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Title = theAuthor.Titles[0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heAuthor.Delete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nsole.WriteLine(aTitle.PublicationDat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6D80A-E752-44E3-BF57-E93627F6F19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de Separat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ll generated db properties are implemented in an intermediary class, AuthorBase for example. This should not be modifi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AuthorBase : EntityObject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string FirstName { …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string LastName { …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itially, a subclass is generated but the developer is expected to modify it and the class is not re-generated when the schema chang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Author : AuthorBase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string FullName { …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35114-8AD8-4438-AE43-07F8240C778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de Generat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de is generated automatically in VS.NET using a custom tool. The source file containing base classes, factories etc. is hidden "behind" the XML schema defini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and line tool available for scripted build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114560" y="2781360"/>
          <a:ext cx="6697440" cy="290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4560" y="2781360"/>
                    <a:ext cx="6697440" cy="29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02283-5905-43C2-A563-5AAE84DBCB2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sign Goals (review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siness entities are represented by obj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Entity Object class per database t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Entity Object per database ro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nsparent access to derived proper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nsparent access to related ent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ongly typed AP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matic generation of database schema and class templates from a single XML fi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paration of generated and custom c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 integration with ADO.NET framew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"/>
          <p:cNvSpPr/>
          <p:nvPr/>
        </p:nvSpPr>
        <p:spPr>
          <a:xfrm>
            <a:off x="528480" y="11430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28480" y="167652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8480" y="22096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28480" y="281952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28480" y="33526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28480" y="38862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8480" y="533412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5640" y="44956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5C16A-1732-469F-BBB4-175481ACD16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hat is Neo?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5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o is a framework for .NET developers who want to write enterprise applications with an object-based domain model. It is well suited for domain-driven design and agile develo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5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F330D-8B13-4A1F-8D56-68E4013437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ision and Design Goal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siness entities are represented by obj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Entity Object class per database t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Entity Object per database ro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nsparent access to derived proper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nsparent access to related ent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ongly typed AP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matic generation of database schema and class templates from a single XML fi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paration of generated and custom c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 integration with ADO.NET framew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A6C74-04DE-4398-8576-52EE9256F75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ttribut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ntity object has properties for db columns; attributes in ER-Modelling ter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Author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string FirstName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get { …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t { …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ag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nsole.WriteLine(anAuthor.FirstNam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nAuthor.FirstName = "Neal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39363-578B-45B6-BD73-85CF32DC95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rived Attribut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ustom code adds new (derived) attribut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Author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string FullName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get { return FirstName + " " + LastName;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t { …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age: (indistinguishable from db properti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nsole.WriteLine(anAuthor.FullNam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nAuthor.FullName = "Neal Stephenson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80404-BC92-4AC4-B322-5A31316336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o-One Relation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ntity object has properties for related objec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Title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Publisher Publisher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get { …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t { …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age: (simple object assignment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hePublisher = aTitle.Publish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nsole.WriteLine(thePublisher.Nam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Title.Publisher = anotherPublish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0FD55-7E47-4EA4-903E-73E09A86B39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o-Many Relation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bject has (typed) collection for related object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Publisher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TitleRelation Titles { get { … };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TitleRelation : IList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Title this[int index] { …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Add(Title aTitle) { …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Count { …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age: (identical to .NET collection patter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(thePublisher.Titles.Count &gt; 0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Title = thePublisher.Titles[0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hePublisher.Titles.Add(anotherTitl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bjects are loaded on first access (Lazy-Load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D7851-B9B9-4774-941F-574B435F2E8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RUD – The res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actories create and find objects. Objects delete themsel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AuthorFactory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Author CreateObject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AuthorList FindAllObjects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AuthorList FindMatchingObjects( … 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AuthorList Find( … 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Author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Delete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ag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yFactory = new AuthorFactory( … 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Author = myFactory.Creat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sultSet = myFactory.FindAllObjects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73827-24AC-4AAB-B497-C8ADADF626D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mary Key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imary keys can be generated; either auto-incremented integers or globally unique id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eo also supports "meaningful" primary keys and generates different Create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2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 = titleFactory.CreateObject("TC7777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eo understands correlation tables and generates special Create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2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a = taFactory.CreateObject(title, author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ther primary key generation strategies can be implemented outside the framework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809B2-AD4B-4D6C-9947-C4C2E2A0999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7T17:55:34Z</dcterms:created>
  <dc:creator>Erik Dörnenburg</dc:creator>
  <dc:description/>
  <dc:language>en-US</dc:language>
  <cp:lastModifiedBy> </cp:lastModifiedBy>
  <dcterms:modified xsi:type="dcterms:W3CDTF">2004-05-19T07:26:53Z</dcterms:modified>
  <cp:revision>78</cp:revision>
  <dc:subject/>
  <dc:title>Neo Design Goals</dc:title>
</cp:coreProperties>
</file>