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F97C-3683-444D-9625-D81F4C60C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66A2-E91E-448B-827C-37536BF53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1B81-FD41-4581-8E1E-1D75C4E98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D50E-1173-4D41-9758-E8545FF3F1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EDEB-6F39-4E28-93A8-3F5557459D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4138-2926-4B01-94F4-E7B8C9A7E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6C72-0BDE-4295-B702-BF2C69541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DD0B-DDA1-413D-8933-AEC8F1E0D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DD5D-DD3B-4EB4-B4E5-E7FE7C686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37A1-B05F-4F54-BCCA-50C3ADF13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C27D-4EC3-447D-9AAE-7C5B7C00C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3D7F-89FC-4C64-BA16-DDF88447D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334B-18A8-4B69-9940-EE4AE54F8E6F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rchitecture and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3 Erik Dörnenburg – Last updated: December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Object Contex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context relies on its internal DataSet to track changes (creates, updates and deletes.) It provides methods to save or get the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Collection Save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a can be added from other ADO.NET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MergeDataSet(aDataSe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ImportRow(aDataRow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reate entity objects in a specific context; they use the context passed to the construct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Factory = new Author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0A69-6F79-4D71-8C77-83BB2925FB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Data St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data store is responsible for retrieving and updating the backing store for the contex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DataStor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Table Fetch(IFetchSpecification f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Collection Save(DataTable tab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BeginTransaction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Context uses a data store to retrieve objects and save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pecial data store could act as a façade for other data stores. I could select an appropriate store for a request and forward the requ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3AD5-6A92-4E6B-9069-57D37CF500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Disconnected cli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 contexts can work without a data store and take data directly from a Data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 = new ObjectContext(someDataSe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allow indirect access to their internal DataSet so that changes can be made persist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s = context.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do something to persist these change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maybe send dataset to a server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succ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Accep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BDB9-D5F1-46C6-8431-B0AE0EFDD0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to redistribute database generated ke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generates temporary (negative) primary key values. Data stores provide a mapping from these temporary keys to the actual db valu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 = new PkChangeTable("job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.AddPkChange(row["job_id"], actualKeyVa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in distributed environme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hanges = clientContext.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rverContext.MergeDataSet(chang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kctArray = serverContext.Save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ientContext.UpdatePrimaryKeys(pkctArra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ientContext.Accep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80060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rchitecture: PkChangeTab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7965-76C5-419F-A72B-8E285AEC6A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Main class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15238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960" y="152388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429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46483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7432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40384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3200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25146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9718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8E1B-3210-46B7-94F9-B0961ACAB6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Class overview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2096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87692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Pk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32004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IEntity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3886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Default'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556272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vario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960" y="1523880"/>
            <a:ext cx="190476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7339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572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0481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3200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40384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3505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57150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5486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220968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25146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29718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4FBD-A63D-473A-A986-F1542F5F9B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eo.Core and IEntityObjec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EntityObject and a specific constructor are the minimal interface for an entity objec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o.Core.ObjectContext Context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ystem.Data.DataRow Row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omeClass(DataRow row, ObjectContect ct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core classes use IEntityObject only and do not impose the EntityObject/Base/User Class structure. Consequently, Neo.Core could be used to implement alternative entity object mode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A556-9C68-48F6-B4B9-7F26569704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FetchSpecific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FetchSpecification is used to select objects in object contexts and data s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FetchSpecification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EntityMap EntityMap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Qualifier Qualifier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etchSpecification is a straight-forward im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FetchSpecification : IFetchSpec…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FetchSpecification(IEntityMap m,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ery Templates implement IFetchSpecific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65B6-8256-423A-BB84-93CC1683A0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EntityMa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vides information about the mapping between database tables and entity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Map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ype ObjectType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TableName { get 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[] Columns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GetColumnForProperty(string pro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generate ADO.NET schema inform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UpdateSchema(DataTable table,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provides an abstract implementation that is subclassed by generated classes, one per entity. This is likely to change; always use interfa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9333-25C1-47D7-A887-9D8DAA31D3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EntityMapFactor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map factories provide access to entity maps by table name or object typ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MapFacto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GetMap(string table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GetMap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Collection GetAllMap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faultEntityMapFactory is standard implementation that searches for IEntityMap implementers in all linked assembl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B4FD-A38E-4FCE-936D-E0EDA48A98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 and Implement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ig Pi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.Data inte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view of the main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gory det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B46A-E82E-494D-92B8-B5527F764E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PkInitializ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ains a single method which must initialise a new database row. If scheme involves pk values provided by the application they are passed 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PkInitializ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InitializeRow(DataRow row, object arg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has three implement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User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Native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Guid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69F7-6B04-4001-AB98-27A1562DFD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Class overview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22096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487692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Pk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32004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IEntity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3886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Default'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56272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vario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888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7960" y="1523880"/>
            <a:ext cx="190476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37339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4572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0481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200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40384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3505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57150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5486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20968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9718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EF09-5152-4084-8602-1700344BC6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Big Pic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ty Object world and the ADO.NET world are brought together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898560" y="2590920"/>
            <a:ext cx="1616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35268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114800"/>
            <a:ext cx="1523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87692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tho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563868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11480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590920"/>
            <a:ext cx="167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72400" y="3048120"/>
            <a:ext cx="595080" cy="1327680"/>
            <a:chOff x="6872400" y="3048120"/>
            <a:chExt cx="595080" cy="1327680"/>
          </a:xfrm>
        </p:grpSpPr>
        <p:sp>
          <p:nvSpPr>
            <p:cNvPr id="56" name=""/>
            <p:cNvSpPr/>
            <p:nvPr/>
          </p:nvSpPr>
          <p:spPr>
            <a:xfrm>
              <a:off x="7467480" y="304812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34320" y="4267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72400" y="403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17220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8195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43434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133720"/>
            <a:ext cx="0" cy="43434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286000" y="3809880"/>
            <a:ext cx="609480" cy="610200"/>
            <a:chOff x="2286000" y="3809880"/>
            <a:chExt cx="609480" cy="610200"/>
          </a:xfrm>
        </p:grpSpPr>
        <p:sp>
          <p:nvSpPr>
            <p:cNvPr id="65" name=""/>
            <p:cNvSpPr/>
            <p:nvPr/>
          </p:nvSpPr>
          <p:spPr>
            <a:xfrm>
              <a:off x="2286000" y="380988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6000" y="43113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67160" y="408276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295280" y="3048120"/>
            <a:ext cx="609480" cy="610200"/>
            <a:chOff x="1295280" y="3048120"/>
            <a:chExt cx="609480" cy="610200"/>
          </a:xfrm>
        </p:grpSpPr>
        <p:sp>
          <p:nvSpPr>
            <p:cNvPr id="69" name=""/>
            <p:cNvSpPr/>
            <p:nvPr/>
          </p:nvSpPr>
          <p:spPr>
            <a:xfrm>
              <a:off x="1295280" y="30481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5280" y="3549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76440" y="332100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F269-537C-44FF-9DA5-C3B8099052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very entity object has a reference to its DataRow and to the context it belongs 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DataRow Row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Context Context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a is stored in directly in ro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Row["au_fname"] = value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return Row["au_fname"]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e how property names and column names can be mapp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F506-A135-4E82-8811-6EBA686702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-one relation properties take the value from the related object and set it as foreign key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Publisher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ow["pub_id"] = value.Row["pub_id"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use the context to find the object for the foreign key value in the related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(Publisher)Contex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Object("publishers", Row["pub_id"]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722D-78FA-4A16-8FCA-85CD25F240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-many relations are managed by and exposed as typed coll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readonly TitleRelation Tit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relation collection objects have a reference to the object that owns the relation and a cache for the objects in the re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ublishe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blis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480060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7560" y="4572000"/>
            <a:ext cx="3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480060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itle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5334120"/>
            <a:ext cx="4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itle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5257800"/>
            <a:ext cx="5936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A8D0-91B3-48EC-9E86-D3E0536AEC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lation objects work much like the relation properties. They manipulate the foreign key column of the affected o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Row["pub_id"] = Owner.Row["pub_id"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emove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Row["pub_id"] = nul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use the context to find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tected void Load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nerList = Owner.Context.GetObjects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F1F4-850D-4915-9EFA-707C78A0C7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Big Pic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ty Object world and the MS.NET world are brought together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898560" y="2590920"/>
            <a:ext cx="1616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35268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114800"/>
            <a:ext cx="1523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487692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tho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563868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11480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590920"/>
            <a:ext cx="167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872400" y="3048120"/>
            <a:ext cx="595080" cy="1327680"/>
            <a:chOff x="6872400" y="3048120"/>
            <a:chExt cx="595080" cy="1327680"/>
          </a:xfrm>
        </p:grpSpPr>
        <p:sp>
          <p:nvSpPr>
            <p:cNvPr id="104" name=""/>
            <p:cNvSpPr/>
            <p:nvPr/>
          </p:nvSpPr>
          <p:spPr>
            <a:xfrm>
              <a:off x="7467480" y="304812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34320" y="4267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72400" y="403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17220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8195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43434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133720"/>
            <a:ext cx="0" cy="43434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0" y="3809880"/>
            <a:ext cx="609480" cy="610200"/>
            <a:chOff x="2286000" y="3809880"/>
            <a:chExt cx="609480" cy="610200"/>
          </a:xfrm>
        </p:grpSpPr>
        <p:sp>
          <p:nvSpPr>
            <p:cNvPr id="113" name=""/>
            <p:cNvSpPr/>
            <p:nvPr/>
          </p:nvSpPr>
          <p:spPr>
            <a:xfrm>
              <a:off x="2286000" y="380988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0" y="43113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67160" y="408276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295280" y="3048120"/>
            <a:ext cx="609480" cy="610200"/>
            <a:chOff x="1295280" y="3048120"/>
            <a:chExt cx="609480" cy="610200"/>
          </a:xfrm>
        </p:grpSpPr>
        <p:sp>
          <p:nvSpPr>
            <p:cNvPr id="117" name=""/>
            <p:cNvSpPr/>
            <p:nvPr/>
          </p:nvSpPr>
          <p:spPr>
            <a:xfrm>
              <a:off x="1295280" y="30481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95280" y="3549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76440" y="332100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DC9E-196F-4C2B-8F8C-A8C1B0FDAB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Object Contex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pplications create as many contexts as requi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 = new ObjectCont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Context actually handles all of the CRUD operations, other methods are just a faça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ObjectContex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Object CreateObject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List GetAllObjects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List GetObjects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DeleteObject(IEntityObject anObjec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2FED-B974-463D-A24E-9F7FBD1109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05-19T07:28:25Z</dcterms:modified>
  <cp:revision>69</cp:revision>
  <dc:subject/>
  <dc:title>Neo Architecture and Implementation</dc:title>
</cp:coreProperties>
</file>