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72190-F486-44C4-A8D3-ED8AAECF2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43486-D859-40EA-8899-69AF9C172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427AF-D127-4900-87B8-107C5277F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1426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90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971DF-C66C-4352-A606-920BD98A2B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DA13-2475-4841-A3AE-E4819C387B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3AED-2235-4FAA-AC2F-2E4644ED9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60AC-5112-4502-AB66-F2DD1EBFE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25DA-677A-423A-929F-9CF8ACF97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22824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6464-63B7-4016-B450-6B63F1D21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9A38-75C6-4778-BEAE-227CB4F9C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90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F156-2A01-4B3E-A706-A46335152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26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2AA9-FA91-486C-8E2A-3907D3333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52280"/>
            <a:ext cx="10670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15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Aft>
                <a:spcPts val="1500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620120" y="228240"/>
            <a:ext cx="1218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7873-5436-4C58-BF9A-3E81D12AEDAB}" type="slidenum">
              <a:rPr b="1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196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Impact"/>
              </a:rPr>
              <a:t>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.NET Entity Ob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http://neo.codehaus.or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Architecture and Implemen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613560"/>
            <a:ext cx="914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08080"/>
                </a:solidFill>
                <a:latin typeface="Verdana"/>
              </a:rPr>
              <a:t>Copyright © 2002-2003 Erik Dörnenburg – Last updated: December 20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Object Contex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context relies on its internal DataSet to track changes (creates, updates and deletes.) It provides methods to save or get the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Collection Save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a can be added from other ADO.NET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MergeDataSet(aDataSe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ImportRow(aDataRow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actories create entity objects in a specific context; they use the context passed to the construct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orFactory = new AuthorFactory(myContex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12BE-E0F8-4709-9A27-E12008D548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Data St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data store is responsible for retrieving and updating the backing store for the contex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DataStor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Table Fetch(IFetchSpecification f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Collection Save(DataTable tab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BeginTransaction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Context uses a data store to retrieve objects and save 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special data store could act as a façade for other data stores. I could select an appropriate store for a request and forward the reque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00634-55EF-404A-9D4F-E8365E5BAF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Disconnected cli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 contexts can work without a data store and take data directly from a Data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 = new ObjectContext(someDataSe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allow indirect access to their internal DataSet so that changes can be made persist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s = context.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do something to persist these changes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maybe send dataset to a server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succes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.Accep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8263-6DD4-4355-9ABD-B9D8092C15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to redistribute database generated key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generates temporary (negative) primary key values. Data stores provide a mapping from these temporary keys to the actual db valu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 = new PkChangeTable("jobs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.AddPkChange(row["job_id"], actualKeyVal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in distributed environmen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hanges = clientContext.Ge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rverContext.MergeDataSet(changes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kctArray = serverContext.Save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ientContext.UpdatePrimaryKeys(pkctArra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ientContext.AcceptChange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80060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rchitecture: PkChangeTabl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E87A-7A52-4AF7-A8EF-85EEE13834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Main class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15238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960" y="152388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429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46483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27432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81280" y="40384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3200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25146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9718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8E99-5E84-4124-B52F-1E21C3BD95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Class overview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2096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487692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Pk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32004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IEntity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3886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Default'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556272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vario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960" y="1523880"/>
            <a:ext cx="190476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7339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572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30481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3200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40384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3505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57150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95680" y="5486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220968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25146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29718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42F4-B70F-42C0-8777-5B414023A8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eo.Core and IEntityObjec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EntityObject and a specific constructor are the minimal interface for an entity objec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o.Core.ObjectContext Context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ystem.Data.DataRow Row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omeClass(DataRow row, ObjectContect ct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core classes use IEntityObject only and do not impose the EntityObject/Base/User Class structure. Consequently, Neo.Core could be used to implement alternative entity object mode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953E-6C3E-410A-A8BA-F1EBDE8EC7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FetchSpecific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FetchSpecification is used to select objects in object contexts and data s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FetchSpecification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EntityMap EntityMap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Qualifier Qualifier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etchSpecification is a straight-forward im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FetchSpecification : IFetchSpec…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FetchSpecification(IEntityMap m,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ery Templates implement IFetchSpecific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88DCE-E193-4F08-9B94-189AB369C4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EntityMa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vides information about the mapping between database tables and entity obj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Map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ype ObjectType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TableName { get 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[] Columns { get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ring GetColumnForProperty(string prop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generate ADO.NET schema inform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UpdateSchema(DataTable table,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provides an abstract implementation that is subclassed by generated classes, one per entity. This is likely to change; always use interfa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DE9F-B173-4DF2-BEB7-B5002C5341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EntityMapFactory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ntity map factories provide access to entity maps by table name or object typ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EntityMapFactory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GetMap(string tableNam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Map GetMap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Collection GetAllMap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faultEntityMapFactory is standard implementation that searches for IEntityMap implementers in all linked assembl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3CE4-0952-4BB0-9A0E-584170A566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 and Implement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ig Pi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.Data inte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verview of the main cla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re gory detai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CA21-0F23-44C0-A5B7-2490D2E402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ternals: IPkInitialize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ains a single method which must initialise a new database row. If scheme involves pk values provided by the application they are passed 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erface IPkInitializ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InitializeRow(DataRow row, object arg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o has three implement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User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Native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GuidPkInitiali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E66E-6D79-4767-9951-A39C45EF45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Class overview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220968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487692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Pk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32004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Verdana"/>
              </a:rPr>
              <a:t>IEntity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3886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Default'MapFa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56272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variou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8880" y="5334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15238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7960" y="1523880"/>
            <a:ext cx="190476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37339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457200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Fa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304812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3200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ql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403848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kChange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76520" y="35053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57150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Fetch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54864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209680"/>
            <a:ext cx="190476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19810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514600"/>
            <a:ext cx="1905120" cy="4572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IData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9718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48C4-65EF-439F-9B55-BD88AD9BCD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Big Pic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ty Object world and the ADO.NET world are brought together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898560" y="2590920"/>
            <a:ext cx="1616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35268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114800"/>
            <a:ext cx="1523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87692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tho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563868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11480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00800" y="2590920"/>
            <a:ext cx="167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872400" y="3048120"/>
            <a:ext cx="595080" cy="1327680"/>
            <a:chOff x="6872400" y="3048120"/>
            <a:chExt cx="595080" cy="1327680"/>
          </a:xfrm>
        </p:grpSpPr>
        <p:sp>
          <p:nvSpPr>
            <p:cNvPr id="56" name=""/>
            <p:cNvSpPr/>
            <p:nvPr/>
          </p:nvSpPr>
          <p:spPr>
            <a:xfrm>
              <a:off x="7467480" y="304812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934320" y="4267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72400" y="403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17220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7220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28195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43434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133720"/>
            <a:ext cx="0" cy="43434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286000" y="3809880"/>
            <a:ext cx="609480" cy="610200"/>
            <a:chOff x="2286000" y="3809880"/>
            <a:chExt cx="609480" cy="610200"/>
          </a:xfrm>
        </p:grpSpPr>
        <p:sp>
          <p:nvSpPr>
            <p:cNvPr id="65" name=""/>
            <p:cNvSpPr/>
            <p:nvPr/>
          </p:nvSpPr>
          <p:spPr>
            <a:xfrm>
              <a:off x="2286000" y="380988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86000" y="43113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67160" y="408276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295280" y="3048120"/>
            <a:ext cx="609480" cy="610200"/>
            <a:chOff x="1295280" y="3048120"/>
            <a:chExt cx="609480" cy="610200"/>
          </a:xfrm>
        </p:grpSpPr>
        <p:sp>
          <p:nvSpPr>
            <p:cNvPr id="69" name=""/>
            <p:cNvSpPr/>
            <p:nvPr/>
          </p:nvSpPr>
          <p:spPr>
            <a:xfrm>
              <a:off x="1295280" y="30481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5280" y="3549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76440" y="332100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3CFF-A577-4499-A5B1-03148685CE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very entity object has a reference to its DataRow and to the context it belongs 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EntityObjec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DataRow Row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ObjectContext Context { get { … }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a is stored in directly in row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string FirstNam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 Row["au_fname"] = value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 return Row["au_fname"]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e how property names and column names can be mapp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8159-6E48-41AA-8F21-E3ED75EB4B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-one relation properties take the value from the related object and set it as foreign key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Tit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Publisher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ow["pub_id"] = value.Row["pub_id"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y use the context to find the object for the foreign key value in the related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(Publisher)Contex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GetObject("publishers", Row["pub_id"]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AABC8-B149-41F4-9520-F357544542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-many relations are managed by and exposed as typed coll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Publisher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readonly TitleRelation Title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relation collection objects have a reference to the object that owns the relation and a cache for the objects in the re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Publishe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ublis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l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1800" y="4800600"/>
            <a:ext cx="60948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7560" y="4572000"/>
            <a:ext cx="3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480060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45720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itle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1280" y="50292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Rel'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5334120"/>
            <a:ext cx="4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5486400"/>
            <a:ext cx="19051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itle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71800" y="5257800"/>
            <a:ext cx="59364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ABFA-AC4F-418C-B708-331D2ACA34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mpl: ADO.NET integr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lation objects work much like the relation properties. They manipulate the foreign key column of the affected obje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Add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Row["pub_id"] = Owner.Row["pub_id"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emove(Title aTitle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Title.Row["pub_id"] = nul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use the context to find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tected void Load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nerList = Owner.Context.GetObjects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BD18-8A23-4669-B862-6ACAB8CF3D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Big Pictur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ntity Object world and the MS.NET world are brought together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898560" y="2590920"/>
            <a:ext cx="16160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35268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4114800"/>
            <a:ext cx="1523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Data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487692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uthor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563868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h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4114800"/>
            <a:ext cx="1524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Entity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00800" y="2590920"/>
            <a:ext cx="1676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bject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872400" y="3048120"/>
            <a:ext cx="595080" cy="1327680"/>
            <a:chOff x="6872400" y="3048120"/>
            <a:chExt cx="595080" cy="1327680"/>
          </a:xfrm>
        </p:grpSpPr>
        <p:sp>
          <p:nvSpPr>
            <p:cNvPr id="104" name=""/>
            <p:cNvSpPr/>
            <p:nvPr/>
          </p:nvSpPr>
          <p:spPr>
            <a:xfrm>
              <a:off x="7467480" y="3048120"/>
              <a:ext cx="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34320" y="42670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72400" y="403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172200" y="45720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53341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2819520"/>
            <a:ext cx="380988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43434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133720"/>
            <a:ext cx="0" cy="4343400"/>
          </a:xfrm>
          <a:prstGeom prst="line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0" y="3809880"/>
            <a:ext cx="609480" cy="610200"/>
            <a:chOff x="2286000" y="3809880"/>
            <a:chExt cx="609480" cy="610200"/>
          </a:xfrm>
        </p:grpSpPr>
        <p:sp>
          <p:nvSpPr>
            <p:cNvPr id="113" name=""/>
            <p:cNvSpPr/>
            <p:nvPr/>
          </p:nvSpPr>
          <p:spPr>
            <a:xfrm>
              <a:off x="2286000" y="380988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0" y="431136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67160" y="408276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295280" y="3048120"/>
            <a:ext cx="609480" cy="610200"/>
            <a:chOff x="1295280" y="3048120"/>
            <a:chExt cx="609480" cy="610200"/>
          </a:xfrm>
        </p:grpSpPr>
        <p:sp>
          <p:nvSpPr>
            <p:cNvPr id="117" name=""/>
            <p:cNvSpPr/>
            <p:nvPr/>
          </p:nvSpPr>
          <p:spPr>
            <a:xfrm>
              <a:off x="1295280" y="3048120"/>
              <a:ext cx="0" cy="50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95280" y="35496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76440" y="3321000"/>
              <a:ext cx="32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861C-DA64-4C31-B67A-6B92FF8293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chitecture: The Object Contex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pplications create as many contexts as requi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 = new ObjectCont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bjectContext actually handles all of the CRUD operations, other methods are just a façad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Class ObjectContex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EntityObject CreateObject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List GetAllObjects(Type objectType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List GetObjects( … 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DeleteObject(IEntityObject anObject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31C5-D0D4-415D-BC3D-6ACCEBEF71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55:34Z</dcterms:created>
  <dc:creator>Erik Dörnenburg</dc:creator>
  <dc:description/>
  <dc:language>en-US</dc:language>
  <cp:lastModifiedBy> </cp:lastModifiedBy>
  <dcterms:modified xsi:type="dcterms:W3CDTF">2004-05-19T07:28:25Z</dcterms:modified>
  <cp:revision>69</cp:revision>
  <dc:subject/>
  <dc:title>Neo Architecture and Implementation</dc:title>
</cp:coreProperties>
</file>