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4BA93-6252-4595-9EA3-A4045733B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6386-6917-4288-B704-B7C55B236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87479-9E05-49E8-A315-2EEB91973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BBB7-0B31-4342-B9B3-C7A8108262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4E9EF-E2F9-4974-966D-75764C6B70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5516-BAA8-49AC-AA53-A7DC0F961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2311B-FF37-4AB5-8F6E-9CEF02F99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44DE-0A4B-4C53-A50A-AC7661D26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D4B6-3C53-4524-8D8A-3B0D334D9A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4D47-55FF-4FF5-A93E-8E823E240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1919E-F088-4DB9-ADCA-1228A6DD6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7701-E087-4BEE-9B9C-3B6573E69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106704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20120" y="228240"/>
            <a:ext cx="1218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1B68-B71D-4B78-B7D0-4DA071548A13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96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Impact"/>
              </a:rPr>
              <a:t>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.NET Entity O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http://neo.codehaus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esign Goa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1356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Copyright © 2002-2004 Erik Dörnenburg – Last updated: May 2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ery Templa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an create a query template that has the same properties as the corresponding entity object, including to-one relationshi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 = authorFactory.GetQueryTemplat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.FirstName = "Neal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 = titleFactory.GetQueryTemplat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mplate.Publisher = aPublish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an find all objects matching the templ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s = factory.FindMatchingObjects(templat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CDB7-156A-4AC6-88B3-8ED9E56082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fiers (Creation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lifiers define criteria for selections. They are normally constructed using forma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Qualifier.Format("name = {0}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mats can use inlined values and comprise multiple claus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Qualifier.Format("name = 'Neal'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… ("name = {0} and locked = false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mats provide a shortcut for simple match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new Qualifier.Format("Name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mats can include property path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 = new Qualifier.Format("Publisher.Name", 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48D0-9C94-4D90-8BB4-3B30A30CC4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fiers (Usage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use qualifier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Factory f = new AuthorFactory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List list = f.Find("Name = {0}", inpu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 do collections and rela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blist = list.Find("Advance &lt; 5000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blist = publisher.Titles.Find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lifiers can also evaluate whether an object matches their criteri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q.EvaluateWithObject(anAuthor)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oSomething(an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5645B-780F-4691-8AB1-4FA6C48208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lete mod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tNull deletes behave as expec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 = thePublisher.Titles[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Publisher.Delete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aTitle.Publisher == nul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"It just works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scading deletes are supported and the last line in the following example will cause an exception to be thr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 = theAuthor.Titles[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Author.Delete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aTitle.PublicationDat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D77F1-4653-4FAE-9BC5-61C24BFD1E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de Sepa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 generated db properties are implemented in an intermediary class, AuthorBase for example. This should not be modifi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Base : EntityObjec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irstName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LastName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itially, a subclass is generated but the developer is expected to modify it and the class is not re-generated when the schema 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: AuthorBas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ullName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CB8A-E9A6-4110-A1FC-1BBD1A9169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de Gene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 is generated automatically in VS.NET using a custom tool. The source file containing base classes, factories etc. is hidden "behind" the XML schema defini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and line tool available for scripted buil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114560" y="2781360"/>
          <a:ext cx="669744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2781360"/>
                    <a:ext cx="669744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33A5-FA13-4D60-85B0-C3ABDF0C59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gn Goals (review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siness entities are represented by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class per database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per database r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derived proper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related ent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ly typed A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matic generation of database schema and class templates from a single XML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aration of generated and custom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 integration with ADO.NET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528480" y="11430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8480" y="1676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8480" y="2209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8480" y="28195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8480" y="3352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8480" y="388620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8480" y="533412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5640" y="4495680"/>
            <a:ext cx="4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0173-A779-4081-A294-E9E06D6E62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is Neo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15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o is a framework for .NET developers who want to write enterprise applications with an object-based domain model. It is well suited for domain-driven design and agile develo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DDCE-E213-4128-8A90-3D9476E32B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ision and Design Goal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siness entities are represented by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class per database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tity Object per database r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derived proper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t access to related ent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ly typed A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matic generation of database schema and class templates from a single XML f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aration of generated and custom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 integration with ADO.NET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ACB6-606F-400E-AB7F-9FF13B2CDD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ttribu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ity object has properties for db columns; attributes in ER-Modelling ter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irstNam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anAuthor.First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nAuthor.FirstName = "Neal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01DBC-B2F3-418C-A02B-C9AEEC7A8E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rived Attribut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ustom code adds new (derived) attribu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ullNam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return FirstName + " " + LastName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 (indistinguishable from db properti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anAuthor.Full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nAuthor.FullName = "Neal Stephenson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EF32-BC10-4B7C-81A3-A8020ED025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-One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ity object has properties for related ob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Tit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Publisher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 (simple object assignment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Publisher = aTitle.Publish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sole.WriteLine(thePublisher.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.Publisher = anotherPublish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19A6B-33D8-48F1-8749-AFC24E5324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-Many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 has (typed) collection for related objec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Relation Titles { get { … }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TitleRelation : ILis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 this[int index]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(Title aTitle)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Count { …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 (identical to .NET collection patter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thePublisher.Titles.Count &gt; 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 = thePublisher.Titles[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ePublisher.Titles.Add(anotherTitl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s are loaded on first access (Lazy-Load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AEC8-DDF2-46A1-AE0F-958C2EA47C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RUD – The res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reate and find objects. Objects delete themsel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Factory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 CreateObject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FindAllObjects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FindMatchingObjects( …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Find( …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Autho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Delete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ag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yFactory = new AuthorFactory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Author = myFactory.Creat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sultSet = myFactory.FindAllObject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DECEA-9DA3-4506-846C-D30074FB01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mary Key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imary keys can be generated; either auto-incremented integers or globally unique id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also supports "meaningful" primary keys and generates different Create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 = titleFactory.CreateObject("TC7777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understands correlation tables and generates special Create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 = taFactory.CreateObject(title, 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ther primary key generation strategies can be implemented outside the framewor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321C-DAD9-45A6-A4E2-F36E06C267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55:34Z</dcterms:created>
  <dc:creator>Erik Dörnenburg</dc:creator>
  <dc:description/>
  <dc:language>en-US</dc:language>
  <cp:lastModifiedBy> </cp:lastModifiedBy>
  <dcterms:modified xsi:type="dcterms:W3CDTF">2004-05-19T07:26:53Z</dcterms:modified>
  <cp:revision>78</cp:revision>
  <dc:subject/>
  <dc:title>Neo Design Goals</dc:title>
</cp:coreProperties>
</file>