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3B200-F439-4AF4-AA5A-7AA0D1F21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CC67-65DB-48D5-9EBF-66EA2EF4A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96BB-5552-486F-9AF3-F5367E114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74967-3D01-48F3-8BF2-B52C27CB8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C0E9A-904C-482D-BDFE-09177AB64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C5C2-E95F-45D4-85FB-93EBCE9EE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0BD1-E37E-4E2B-B983-A2B55173E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C3466-D551-42BC-A341-537F1E882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643B-7D03-4833-9F22-B2E6476DD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8D46-637C-4320-9F64-2E3F6FF47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92AA-CDF0-4193-86F2-784918B4C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F6BE9-6858-420F-86D8-5C0047976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33A0-1A88-46A4-9EC2-AD7992E468CE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atterns and Best Pract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3: Use internal relation and handwrite loop with comparison; improved performance over option 2 but slightly more co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 t in this.Titl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t.Royalty &gt; r) l.Add(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43F9-B594-4F1B-B381-7B129BEC25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title find all its auth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AuthorList GetAuthors(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List l = new AuthorList 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each(TitleAuthor ta in this.TitleAutho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.Add(ta.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B32E2-1860-4FAB-AB85-5BCF07EF09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transparent many-to-man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lution: Add a method to author and/or tit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Autho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oTitle(Title 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itle, thi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Title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Author(Author author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Factory f = new Title…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Author ta = f.CreateObject(this, autho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1AA4-7085-4A2C-ACB8-6D837EA99E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tityMap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entity maps sparingly and access through conte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Factory f = context.EntityMapFactor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map = f.GetMap(typeof(Title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1207-B012-4231-9A0E-3D671E954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transparent many-to-many re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Aft>
                <a:spcPts val="1500"/>
              </a:spcAft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entity maps sparing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63CE-FBA9-4620-9260-50C3BC8A86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factorie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4428-B0D1-44DA-8690-1B7DD73FCC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Declare an iref in schema and use public rel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Relation l = pub.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a copy if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new TitleList(pub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1138D-EA08-4D4F-9B0D-7671340A55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protected relat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2: Make relation protected (in the template for base classes) and provide access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TitleList(this.Titl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Titl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.Titles.Add(aTitl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pub.GetTitl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A0A2-08EF-4330-9397-0C5DE4A54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sk: Given a publisher find all its titles with additional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orst case: Implementation using qualifiers directly in code-behind or some controll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ies &gt; 1000", pub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E9329-1878-440D-B8F0-02E9EAA07F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rovement 1: Move code into entity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 several options *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MyControll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 = pub.GetTitlesWithMinRoyalty(1000);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DBA1-793F-4946-BC07-4B006FEBB3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3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1: Move query as 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Factory f = new TitleFactory(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itleList l = f.Find("Publisher = {0}"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and Royalty &gt; {1}", this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BCE9-5DF4-4588-9A6B-6DBEAEADCE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vide custom qu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on 2: Use internal relation; elegant and caching behaviour but has to bring all titles for publisher into mem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ublisher.c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TitleList GetTitlesWithMinRoyalty(int 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this.Titles.Find("Royalties &gt; {0}", r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23EA-E8E6-45F0-B6ED-83EF20B385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30:21Z</dcterms:modified>
  <cp:revision>79</cp:revision>
  <dc:subject/>
  <dc:title>Neo Patterns and Best Practices</dc:title>
</cp:coreProperties>
</file>