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A0EF-7595-4A07-8577-ADCF3E634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CE31-9BE0-41EE-ADAF-B25C28980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E409-A03E-4ADF-B0D6-8D098DB8D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7CDD-CE6B-474B-A151-A6E67C055A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87082-21D3-498F-BF89-30EA2BC349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086D-98E0-4C13-94AC-DCA7A7992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BF5F-A74A-406D-8E76-28CCF94F6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11579-80FD-47F5-9266-162AC8BD1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3500-9C93-4F62-AFFF-AFD490C8F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D9AF-C0A0-4615-82A9-C4F61586A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FA350-27D1-43A5-98D5-811756C1B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0643-A0D4-41F9-AC58-BA7B8D663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A78C-6F1C-49AA-9F01-AD526F3C8EE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ntext relies on its internal DataSet to track changes (creates, updates and deletes.) It provides methods to save or get th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Collection 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can be added from other ADO.NET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MergeDataSet(a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ImportRow(aDataR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entity objects in a specific context; they use the context passed to the constru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= new Author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F683-4317-45D0-916E-DB1128EFDE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ata St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ata store is responsible for retrieving and updating the backing store for the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DataStor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Table Fetch(IFetchSpecification 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Save(DataTable 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BeginTransactio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uses a data store to retrieve objects and sav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pecial data store could act as a façade for other data stores. I could select an appropriate store for a request and forward the requ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C725-D1BD-48EE-A055-0905BE9AE0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isconnected cli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contexts can work without a data store and take data directly from a Data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some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allow indirect access to their internal DataSet so that changes can be made persist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s = 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 something to persist these change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maybe send dataset to a serve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suc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28DA-6C18-4561-ACCD-91389ED407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redistribute database generated k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generates temporary (negative) primary key values. Data stores provide a mapping from these temporary keys to the actual db va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 = new PkChangeTable("job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.AddPkChange(row["job_id"], actualKeyV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in distributed environ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nges = client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Context.MergeDataSet(chang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kctArray = serverContext.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UpdatePrimaryKeys(pkctAr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80060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rchitecture: PkChangeTa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EE59-AD72-4E79-930D-C6F50D5D6E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Main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429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6483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7432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00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8098C-7810-4950-A66C-F9AA33E475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1716-11EE-4F8D-9453-47BB70E74B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o.Core and IEntityOb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ntityObject and a specific constructor are the minimal interface for an entity ob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o.Core.ObjectContext Context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Data.DataRow Row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omeClass(DataRow row, ObjectContect ct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ore classes use IEntityObject only and do not impose the EntityObject/Base/User Class structure. Consequently, Neo.Core could be used to implement alternative entity objec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55A1-2C83-4B3C-A08B-85E0C9B586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FetchSpec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etchSpecification is used to select objects in object contexts and data s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FetchSpecificati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EntityMap EntityMap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Qualifier Qualifier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Specification is a straight-forward im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FetchSpecification : IFetchSpec…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FetchSpecification(IEntityMap m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ry Templates implement IFetchSpec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411A-561D-43AA-A285-6D4DEAAFDD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the mapping between database tables and entity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 ObjectType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TableName { get 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[] Columns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ColumnForProperty(string pr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ADO.NET schema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UpdateSchema(DataTable table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provides an abstract implementation that is subclassed by generated classes, one per entity. This is likely to change; always use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D2B4-BFFB-4694-B6DE-8E65978819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Facto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map factories provide access to entity maps by table name or object ty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string tab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GetAllMap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aultEntityMapFactory is standard implementation that searches for IEntityMap implementers in all link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630F-B68E-4C42-B0DC-15EC592C65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g Pi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.Data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 of the main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gory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5EE6-536D-4A66-B82D-8C8F750EB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PkInitializ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s a single method which must initialise a new database row. If scheme involves pk values provided by the application they are passed 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PkInitializ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InitializeRow(DataRow row, object ar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has three implement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User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ative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B4515-7766-49E1-B287-78817EE9B3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BE8A-0602-443D-B6D7-AABF6E577C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ADO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56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65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69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761C-A74B-4651-8A4F-BE075EBB3A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ry entity object has a reference to its DataRow and to the context it belongs 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ataRow Row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Context Context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is stored in directly in r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Row["au_fname"] = valu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Row["au_fname"]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how property names and column names can be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58CA-8409-43F7-BE41-175A81415C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one relation properties take the value from the related object and set it as foreign ke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w["pub_id"] = value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use the context to find the object for the foreign key value in the related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(Publisher)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Object("publishers", Row["pub_id"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3499B-255E-431B-A7FD-F0330B3CE0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many relations are managed by and exposed as typed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readonly TitleRelation 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lation collection objects have a reference to the object that owns the relation and a cache for the objects in the 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blishe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006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7560" y="457200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80060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533412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59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3514-BDBB-4491-8440-BBF420485D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tion objects work much like the relation properties. They manipulate the foreign key column of the affected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Owner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use the context to fi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void Load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nerList = Owner.Context.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7FC6-B6A1-4577-BF6F-64F2CB3996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MS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104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113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117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191BD-8CB3-4CFC-8171-9E51C444B4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s create as many contexts as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actually handles all of the CRUD operations, other methods are just a faç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ObjectContex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Object CreateObject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AllObjects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DeleteObject(IEntityObject anObjec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C650-2BC7-4FDC-8CB8-40FCC13E17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8:25Z</dcterms:modified>
  <cp:revision>69</cp:revision>
  <dc:subject/>
  <dc:title>Neo Architecture and Implementation</dc:title>
</cp:coreProperties>
</file>