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9D79-140C-4C94-AE91-1C6F4A59B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3EB4-FE4F-48CA-9FD1-3827B0033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422FF-6084-4BD2-9635-F6A8DFCB6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1C970-67B5-420E-B998-D998CDFDA6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2C69-D002-4147-953F-EE88293E22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B438-67FC-4920-8021-E7DC43807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3920-D73B-4B54-ADBA-459164A04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FB5B-8041-4FFF-BF5D-288B53B7A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9D23-1E9B-4CF9-857A-D8FEE650F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6628-B3DA-412C-97B6-D2171DB0C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7202-BBF9-44B0-8843-5C7098A60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6CE1-3168-4E53-BFD0-CD391A820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C3D2-AE6C-4B2D-8A54-9D554082674F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esign Go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4 Erik Dörnenburg – Last updated: May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ry Templ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create a query template that has the same properties as the corresponding entity object, including to-one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author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FirstName = "Nea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title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Publisher = a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find all objects matching the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s = factory.FindMatchingObjects(templ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328D-AE9E-442F-A3F0-26533A7702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Creatio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define criteria for selections. They are normally constructed using forma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use inlined values and comprise multiple cl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'Neal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… ("name = {0} and locked = fals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provide a shortcut for simple match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Nam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include property pat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Publisher.Name", 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372C-32E0-42B5-989F-1C43079B61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Usag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use qualifi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f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ist = f.Find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 do collections and rel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list.Find("Advance &lt; 5000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publisher.Titles.Find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can also evaluate whether an object matches their criter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q.EvaluateWithObject(anAuthor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omething(an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03AD5-0E42-4FF0-8CC3-7C8C0AA8C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lete mod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Null deletes behave as exp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aTitle.Publisher == 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"It just works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cading deletes are supported and the last line in the following example will cause an exception to be thr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Autho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Autho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Title.Publication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BC19-E9D9-4AF7-AFE6-44B9C70A21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Sep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generated db properties are implemented in an intermediary class, AuthorBase for example. This should not be mod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Base :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La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ly, a subclass is generated but the developer is expected to modify it and the class is not re-generated when the schema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: AuthorBa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6629D-7887-4D2B-AB5D-AC88C93B8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Gen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is generated automatically in VS.NET using a custom tool. The source file containing base classes, factories etc. is hidden "behind" the XML schema defin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nd line tool available for scripted buil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14560" y="2781360"/>
          <a:ext cx="669744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781360"/>
                    <a:ext cx="66974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54F1-64B8-4F19-A817-C01C6AA654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Goals (revie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1143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48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2209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480" y="2819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48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3886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48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4495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972C-DBA6-4B08-A920-0D42941C9D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Neo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 is a framework for .NET developers who want to write enterprise applications with an object-based domain model. It is well suited for domain-driven design and agile develo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F8B5-652F-48E9-9D0F-1D371039F2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ion and Design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2033-1F76-4D81-830F-C876F80EFC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db columns; attributes in ER-Modelling te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irst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irstName = "Neal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12BC-10B4-4301-B240-5C54376AD6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ived 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 code adds new (derived) attribu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FirstName + " " + LastNam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ndistinguishable from db proper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ull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ullName = "Neal Stephenson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127A-F01E-4377-A8DC-06C4896E13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One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related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simple object assign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 = aTitle.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thePublisher.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Publisher = another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718F3-EB8A-4F38-A197-7F00BD748D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Many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has (typed) collection for related obj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Relation Titles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Relation : ILis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 this[int index]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Coun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dentical to .NET collection patte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hePublisher.Titles.Count &gt;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Titles.Add(another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s are loaded on first access (Lazy-Lo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EB998-3A4F-4682-A730-79122B51E9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D – The re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and find objects. Objects delet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 CreateObjec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AllObject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MatchingObjects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yFactory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Author = myFactory.Cre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ultSet = myFactory.FindAllObject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6261-274A-4A7A-AE42-471B32F9F2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Ke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y keys can be generated; either auto-incremented integers or globally unique 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also supports "meaningful" primary keys and generates different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 = titleFactory.CreateObject("TC7777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understands correlation tables and generates special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 = taFactory.CreateObject(title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primary key generation strategies can be implemented outside the frame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01F91-46BD-4E23-B833-582D1CFF4A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6:53Z</dcterms:modified>
  <cp:revision>78</cp:revision>
  <dc:subject/>
  <dc:title>Neo Design Goals</dc:title>
</cp:coreProperties>
</file>