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715F-BDD8-447E-92FD-0E68F4B95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90BF6-500C-4D40-8958-01A90B729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1F9DD-A9E9-4A88-BE0D-DB64D37639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9FB6-8E6C-49C0-8B00-901D90BC76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B923D-B752-4532-90F7-9C039420F1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CEA2-C322-48F5-9CC8-6F6CA4E91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A164-D613-43DA-89BD-B57D1CB31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E182-299E-47AE-BB9A-A7DCC454E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06A3-3547-4E1A-8714-4DEF0F090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E60B-A543-48DE-9AC4-47DC9AB82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E9E21-BD10-46CC-A909-E67F9A7CC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1C34-0855-43E1-9B0A-60FA786A1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106704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20120" y="228240"/>
            <a:ext cx="1218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B550-1121-419D-86C4-866367DD0D75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96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Impact"/>
              </a:rPr>
              <a:t>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.NET Entity O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http://neo.codehaus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atterns and Best Pract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135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Copyright © 2002-2003 Erik Dörnenburg – Last updated: December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tion 3: Use internal relation and handwrite loop with comparison; improved performance over option 2 but slightly more co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new TitleLis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each(Title t in this.Titl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t.Royalty &gt; r) l.Add(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A4DE-0A11-4CE0-B5C2-BA6DFEA98E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transparent many-to-man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ask: Given a title find all its auth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lution: Add a method to Tit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Title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GetAuthors(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List l = new AuthorList 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each(TitleAuthor ta in this.TitleAutho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.Add(ta.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AB0AD-36B5-4BF9-83B9-275DE8B941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transparent many-to-man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lution: Add a method to author and/or tit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Autho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ToTitle(Title 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Factory f = new Title…(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 ta = f.CreateObject(title, thi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Title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Author(Author author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Factory f = new Title…(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 ta = f.CreateObject(this, 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0C798-5F58-4122-A7B1-A0CB89743B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ntityMap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entity maps sparingly and access through contex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Factory f = context.EntityMapFactor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 map = f.GetMap(typeof(Title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38230-1A2D-437B-8951-80C4343680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transparent many-to-many rel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entity maps sparing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EC54-57A1-4C56-B1BB-27896255DC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ask: Given a publisher find all its tit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orst case: Implementation using factories directly in code-behind or some controll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Factory f = new TitleFactory(my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f.Find("Publisher = {0}", pu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1EEF3-E6DC-4398-A804-5B84FD0562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ment 1: Declare an iref in schema and use public rel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Relation l = pub.Tit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a copy if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new TitleList(pub.Titl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74584-04ED-4F43-97C1-5A118FFED4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ment 2: Make relation protected (in the template for base classes) and provide access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TitleList(this.Titl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Title(Title a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is.Titles.Add(aTitl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pub.GetTitl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A88CB-34E1-4E22-945D-ACFE9C4378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ask: Given a publisher find all its titles with additional criter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orst case: Implementation using qualifiers directly in code-behind or some controll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Factory f = new TitleFactory(my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f.Find("Publisher = {0}"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"and Royalties &gt; 1000", pu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1C634-BBB5-442F-A99F-C11F447B9A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ment 1: Move code into entity obj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 several options *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 = pub.GetTitlesWithMinRoyalty(1000);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3A32-7306-41B7-B376-E459008F8B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tion 1: Move query as 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Factory f = new TitleFactory(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f.Find("Publisher = {0}"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"and Royalty &gt; {1}", this, 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2CFD-FD21-4ADF-ACD4-337945EEDF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tion 2: Use internal relation; elegant and caching behaviour but has to bring all titles for publisher into mem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this.Titles.Find("Royalties &gt; {0}", 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FD04-2A2F-4EA6-92D7-C57D02FA21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55:34Z</dcterms:created>
  <dc:creator>Erik Dörnenburg</dc:creator>
  <dc:description/>
  <dc:language>en-US</dc:language>
  <cp:lastModifiedBy> </cp:lastModifiedBy>
  <dcterms:modified xsi:type="dcterms:W3CDTF">2004-05-19T07:30:21Z</dcterms:modified>
  <cp:revision>79</cp:revision>
  <dc:subject/>
  <dc:title>Neo Patterns and Best Practices</dc:title>
</cp:coreProperties>
</file>