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22E5-BA03-4C56-AE60-8AFF56ED5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76C0-BF8B-4C30-B06C-456CC32F9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30A2-505B-4AB4-BBF4-131B75074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543C-DDB7-4FE5-A26C-44C8FB055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D70E-8052-4086-894B-80BB3EB83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C8D0-958F-4B74-B163-A9123CDE5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3487-7285-4145-927B-966691B4E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4E4C-4777-4029-8982-42706CC56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0A3A-EEBD-4145-90D1-8676A16E4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AD77-1486-4B07-AD62-5A8B16E4F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AD7B-7FA0-4E80-A37A-3A30496E4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8845-26D3-4A5D-AA9E-FC20DCC10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04B-87B3-4A23-B782-7E6B690833A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7AE1-99C9-4050-B14A-A8A239DBD3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D2C9-3DB6-4F90-8B27-96CCD3567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5F82-070B-41CE-A6F7-3EACC32B2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E687-6F9B-4BE6-9B2C-602F25471B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9DC3-B1B4-41F8-91E1-9ED22CBCCD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3EBE-AD29-4B57-B109-3DE6E72DED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75C9-446E-4DCB-AE7A-E3C8618514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1D2F-F594-4DF2-B447-816EA2828C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BA33-5CF4-48EC-A45E-39203DD71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8093-778E-41ED-BB6A-355B5EBE2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8172-A877-4C9D-BE52-C68B88635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18FB-EB98-41D7-BF73-64D22F071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30:21Z</dcterms:modified>
  <cp:revision>79</cp:revision>
  <dc:subject/>
  <dc:title>Neo Patterns and Best Practices</dc:title>
</cp:coreProperties>
</file>