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4390-A6DD-4BDF-A81A-ED74A3FA8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C42C-D2A3-4BA5-9867-771DFD66C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1C36-950E-4733-BB31-D2928634F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55DD-2A61-42D1-87CF-6CEB38D4A3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1CA9-106C-4519-85A1-359BB78B50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225A-1539-441B-8B29-32764DEF8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44C7-3A7E-40F7-A306-CE24423C0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CB18-304C-4EB8-9E23-CD1931F7A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E52A-43FF-4AC6-8D48-B94B15E85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C031-0EB2-49FA-9E5C-DC6CFA665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3388-3AC6-4014-9325-6C0E99216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EDE1-F433-463E-A3DB-8922BCF77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11AB-175A-497A-B48E-F899AA6658EB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esign Go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4 Erik Dörnenburg – Last updated: May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ry Templa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create a query template that has the same properties as the corresponding entity object, including to-one relationshi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author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FirstName = "Neal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title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Publisher = a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find all objects matching the tem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s = factory.FindMatchingObjects(templ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F8EF-F20C-462D-8998-3920A64870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Creation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define criteria for selections. They are normally constructed using forma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use inlined values and comprise multiple cla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'Neal'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… ("name = {0} and locked = fals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provide a shortcut for simple match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Nam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include property path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Publisher.Name", 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4A22-1444-4690-A489-C4CBCD7F86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Usag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use qualifi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f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ist = f.Find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 do collections and rel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list.Find("Advance &lt; 5000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publisher.Titles.Find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can also evaluate whether an object matches their criter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q.EvaluateWithObject(anAuthor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omething(an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D2CD-7A20-40D0-AD5F-E44C6F2856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lete mod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Null deletes behave as exp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aTitle.Publisher == 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"It just works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cading deletes are supported and the last line in the following example will cause an exception to be thr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Autho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Autho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Title.Publication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FDD8-B108-4A7A-8F9F-2BB8ACD7DF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Sepa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generated db properties are implemented in an intermediary class, AuthorBase for example. This should not be modi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Base :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La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itially, a subclass is generated but the developer is expected to modify it and the class is not re-generated when the schema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: AuthorBa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4528-EF95-49D5-B0EE-46F543978F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Gene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is generated automatically in VS.NET using a custom tool. The source file containing base classes, factories etc. is hidden "behind" the XML schema defin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nd line tool available for scripted buil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14560" y="2781360"/>
          <a:ext cx="669744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781360"/>
                    <a:ext cx="669744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F2A8-906F-4F6E-A749-9A4474C852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 Goals (review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28480" y="11430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848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8480" y="2209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480" y="2819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848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8480" y="3886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48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640" y="4495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F138-E576-48CA-82B5-609DCF5854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Neo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o is a framework for .NET developers who want to write enterprise applications with an object-based domain model. It is well suited for domain-driven design and agile develo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56C7-AD8E-4BD7-9863-223C72D08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sion and Design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1B7D-6E71-4BB4-B579-1E56F50EA2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db columns; attributes in ER-Modelling te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irst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irstName = "Neal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3A91-9B14-4C8F-87CE-8417237E3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ived 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stom code adds new (derived) attribu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FirstName + " " + LastNam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ndistinguishable from db propert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ull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ullName = "Neal Stephenson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11FF-E809-4052-B099-2282880024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One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related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simple object assign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 = aTitle.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thePublisher.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Publisher = another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E2CF-2907-49E7-835E-1110590469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Many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has (typed) collection for related obje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Relation Titles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Relation : ILis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 this[int index]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Coun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dentical to .NET collection patter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hePublisher.Titles.Count &gt;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Titles.Add(another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s are loaded on first access (Lazy-Loa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9BB8-DBBE-42F8-9884-BAD10FD52F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UD – The re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and find objects. Objects delete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 CreateObjec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AllObject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MatchingObjects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yFactory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Author = myFactory.Cre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sultSet = myFactory.FindAllObject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63CF-7539-4E73-B5A3-3EC24E1146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mary Ke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mary keys can be generated; either auto-incremented integers or globally unique 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also supports "meaningful" primary keys and generates different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 = titleFactory.CreateObject("TC7777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understands correlation tables and generates special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 = taFactory.CreateObject(title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 primary key generation strategies can be implemented outside the frame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839E-79BC-4D9E-B8C4-95813D63C3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26:53Z</dcterms:modified>
  <cp:revision>78</cp:revision>
  <dc:subject/>
  <dc:title>Neo Design Goals</dc:title>
</cp:coreProperties>
</file>