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B8EEE-90AC-4C50-8196-FE7D38B83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A0D3D98A-0101-412A-AE41-5B3B1F6C5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C9DD7995-F96C-488B-B498-0B8CCB95C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0725C1BF-13B2-4E7A-B66E-781251EAF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9B775989-AB5F-479A-84D1-7018438266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71B742E8-025A-4859-ADC8-B411E5262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2884F11E-97A7-4E08-83E4-1898645A09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3F6253E2-0B8B-4924-822C-38F24CEDD1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4E846719-6139-4764-9667-E5CF1670E2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1DE33270-DFFB-4D2A-80FE-E5CB14D217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7872042F-426D-43AF-9062-BA71707355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C1AEE50A-D3B3-4D0F-A24A-3740E9F10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AFA3-6ADC-4EBE-B367-005FDF5B41C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codehaus.org</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VisualStudio tool is part of the Tools solution and builds with it. </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F8B6193F-9F7D-44D7-92B5-7A0751AE92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Select your schema file and open the properties window.</a:t>
            </a:r>
            <a:r>
              <a:rPr b="1"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In the advanced section select ‘Content’ as Build Action and enter ‘NeoCodeGen’ as the name of the custom tool.</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Modify and save the schema file. Alternatively, you can right click on the file and choose ‘Run custom tool’ from the context menu. That’s it!</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 If you receive and error message stating that the templates could not be found you will need to add/modify the neo processing directive in the schema file such that the ‘path’ attribute points to a location where the NeoClass.vtl and NeoSupport.vtl files can be foun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FB54A81-6A6E-40DD-A524-4AE1899CA2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user class files, Author.cs for example, are created into the same directory that the schema is in. (Provided the file does not yet exist.) Please note that the VsTool currently cannot add them to your projects automatically, leaving this as the last manual step.</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CEA346AC-9E3C-4DFE-B84F-A9E24A4AA68C}"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 </cp:lastModifiedBy>
  <dcterms:modified xsi:type="dcterms:W3CDTF">2004-08-23T14:33:39Z</dcterms:modified>
  <cp:revision>71</cp:revision>
  <dc:subject/>
  <dc:title>Neo VisualStudio Tool Guide</dc:title>
</cp:coreProperties>
</file>