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42D9-A71F-44BC-B0E3-D9B1BD29F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C130-EFD2-4EBA-8B71-8819F3D25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C33B-8F42-4B39-932C-C26060F7E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4A17-D41E-447E-A4A8-25865AF23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4F71-CDAA-4B99-9BD6-416413D67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A541-C0E7-4776-BD77-5DFC00857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D3D6-FBB8-4DAE-AA32-EE6C54B92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E069-BDD5-4EA0-9545-FC4354078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959A-FB40-4189-BFD6-656869F7C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DAB0-62D0-4BCF-A02E-EE4A9E127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C31A-69B0-47E0-BFCF-C43F3E28C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FFC5-9051-4641-92EF-EB022FBC9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EB6B-D568-4CE4-A599-1F13CEC92E5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ntext relies on its internal DataSet to track changes (creates, updates and deletes.) It provides methods to save or get th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Collection 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can be added from other ADO.NET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MergeDataSet(a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ImportRow(aDataR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entity objects in a specific context; they use the context passed to the constru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= new Author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614B-017D-4B89-A4D3-5304334DE3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ata St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ata store is responsible for retrieving and updating the backing store for the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DataStor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Table Fetch(IFetchSpecification 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Save(DataTable 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BeginTransactio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uses a data store to retrieve objects and sav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pecial data store could act as a façade for other data stores. I could select an appropriate store for a request and forward the requ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F3E7-304D-4580-8E51-0EFEE1D6B2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isconnected cli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contexts can work without a data store and take data directly from a Data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some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allow indirect access to their internal DataSet so that changes can be made persist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s = 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 something to persist these change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maybe send dataset to a serve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suc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C227-AF03-4164-B6BF-881C0D348A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redistribute database generated k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generates temporary (negative) primary key values. Data stores provide a mapping from these temporary keys to the actual db va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 = new PkChangeTable("job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.AddPkChange(row["job_id"], actualKeyV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in distributed environ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nges = client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Context.MergeDataSet(chang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kctArray = serverContext.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UpdatePrimaryKeys(pkctAr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80060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rchitecture: PkChangeTa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4DC1-C836-4272-B780-6E121EBAB1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Main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429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6483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7432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00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3FC1-E3B7-45C3-9B0C-463211945F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BFC2-54EE-4D43-86E2-C3A678D4D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o.Core and IEntityOb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ntityObject and a specific constructor are the minimal interface for an entity ob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o.Core.ObjectContext Context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Data.DataRow Row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omeClass(DataRow row, ObjectContect ct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ore classes use IEntityObject only and do not impose the EntityObject/Base/User Class structure. Consequently, Neo.Core could be used to implement alternative entity objec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31BA-BC2D-4819-B779-05C90E873A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FetchSpec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etchSpecification is used to select objects in object contexts and data s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FetchSpecificati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EntityMap EntityMap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Qualifier Qualifier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Specification is a straight-forward im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FetchSpecification : IFetchSpec…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FetchSpecification(IEntityMap m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ry Templates implement IFetchSpec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4044-0B9D-477D-86EC-8998BCFF1B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the mapping between database tables and entity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 ObjectType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TableName { get 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[] Columns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ColumnForProperty(string pr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ADO.NET schema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UpdateSchema(DataTable table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provides an abstract implementation that is subclassed by generated classes, one per entity. This is likely to change; always use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CB6E-B27C-4EAC-9619-99A206EF7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Facto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map factories provide access to entity maps by table name or object ty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string tab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GetAllMap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aultEntityMapFactory is standard implementation that searches for IEntityMap implementers in all link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0F12-DCB3-40FF-9183-5423E0EC2C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g Pi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.Data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 of the main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gory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21BA-096E-4A41-8EE9-350EBE3EF3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PkInitializ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s a single method which must initialise a new database row. If scheme involves pk values provided by the application they are passed 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PkInitializ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InitializeRow(DataRow row, object ar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has three implement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User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ative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B3E1-BFEF-48AE-9BBC-12ACF7D0D8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33F6-196C-49F8-9E33-1680812D83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ADO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56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65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69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0916-5C85-4D52-89B6-CED10D89E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ry entity object has a reference to its DataRow and to the context it belongs 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ataRow Row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Context Context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is stored in directly in r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Row["au_fname"] = valu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Row["au_fname"]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how property names and column names can be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9683-11D5-4963-A1A2-CD20C56B2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one relation properties take the value from the related object and set it as foreign ke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w["pub_id"] = value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use the context to find the object for the foreign key value in the related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(Publisher)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Object("publishers", Row["pub_id"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8FD5-52C9-4113-868A-14012A4CFB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many relations are managed by and exposed as typed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readonly TitleRelation 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lation collection objects have a reference to the object that owns the relation and a cache for the objects in the 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blishe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006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7560" y="457200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80060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533412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59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6006-2C82-4DAC-8108-8930EF26A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tion objects work much like the relation properties. They manipulate the foreign key column of the affected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Owner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use the context to fi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void Load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nerList = Owner.Context.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447C-1385-4F97-8658-CAE2C1995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MS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104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113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117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0C94-B2EE-4D96-9301-55B02F12DD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s create as many contexts as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actually handles all of the CRUD operations, other methods are just a faç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ObjectContex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Object CreateObject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AllObjects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DeleteObject(IEntityObject anObjec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6292-3A36-4378-840D-BC0CFC55C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8:25Z</dcterms:modified>
  <cp:revision>69</cp:revision>
  <dc:subject/>
  <dc:title>Neo Architecture and Implementation</dc:title>
</cp:coreProperties>
</file>