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2BAD-5A5A-44A8-8067-911C5DABB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D191-59E7-49F0-B0CD-81CBBFE54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EEC7-8362-4437-A462-A6BBCFCDB8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064C-440A-44FB-A4FC-8F8BD5549C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47F6-2346-4941-8086-0BAD4EC5BE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5085-DBF5-42E7-A8DB-E9A196C91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8663-2F48-472E-9067-EC7812C03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52EC-EC93-4000-87B6-FDA5C813E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AF6D7-8CA2-4215-824B-D3F7D72B4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C947-048E-4146-8FD4-D67B1708B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A455-BED7-48CF-8786-57B2FA909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DD21-50BA-4FF0-9343-9F735A52F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C812-2FA6-4BD7-9D1E-84FF53B6B264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esign Go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4 Erik Dörnenburg – Last updated: May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ry Templa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create a query template that has the same properties as the corresponding entity object, including to-one relationshi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author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FirstName = "Nea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title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Publisher = a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find all objects matching the tem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s = factory.FindMatchingObjects(templ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92F0-67FF-4623-ADBE-1160BE0540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Creation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define criteria for selections. They are normally constructed using forma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use inlined values and comprise multiple cla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'Neal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… ("name = {0} and locked = fals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provide a shortcut for simple match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Nam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include property path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Publisher.Name", 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8ED9-1CF6-4876-A88B-744A727B01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Usag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use qualifi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f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ist = f.Find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 do collections and rel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list.Find("Advance &lt; 5000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publisher.Titles.Find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can also evaluate whether an object matches their criter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q.EvaluateWithObject(anAuthor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omething(an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1AEC-E568-468D-9AA5-9C1C08272F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lete mod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Null deletes behave as exp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aTitle.Publisher == 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"It just works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cading deletes are supported and the last line in the following example will cause an exception to be thr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Autho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Autho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Title.Publication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64FF-6CDA-4AD8-844B-2AE7AFEB37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Sepa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generated db properties are implemented in an intermediary class, AuthorBase for example. This should not be mod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Base :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La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itially, a subclass is generated but the developer is expected to modify it and the class is not re-generated when the schema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: AuthorBa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0CEC-649F-4DAF-AB6B-E5FB0F8A77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Gene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is generated automatically in VS.NET using a custom tool. The source file containing base classes, factories etc. is hidden "behind" the XML schema defin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nd line tool available for scripted buil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14560" y="2781360"/>
          <a:ext cx="669744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781360"/>
                    <a:ext cx="66974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25C2-A46B-4A3A-A038-2C90BD66C0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 Goals (review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28480" y="1143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848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480" y="2209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480" y="2819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848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3886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48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640" y="4495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AB88-CB65-4C7E-A583-763BBBD452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Neo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o is a framework for .NET developers who want to write enterprise applications with an object-based domain model. It is well suited for domain-driven design and agile develo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810E0-936B-4BE3-8AA4-0933C7DB98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ion and Design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DD35-5507-4243-AA2F-670C7CECEE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db columns; attributes in ER-Modelling te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irst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irstName = "Neal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6547-0448-4558-997F-BC44647BD6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ived 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 code adds new (derived) attribu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FirstName + " " + LastNam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ndistinguishable from db proper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ull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ullName = "Neal Stephenson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ACA1-A079-4959-8CE4-4A569B4045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One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related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simple object assign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 = aTitle.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thePublisher.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Publisher = another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33998-E223-4824-B83B-7D907CE869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Many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has (typed) collection for related obj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Relation Titles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Relation : ILis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 this[int index]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Coun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dentical to .NET collection patter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hePublisher.Titles.Count &gt;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Titles.Add(another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s are loaded on first access (Lazy-Lo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BFE3-C620-41E2-9CCB-34AC068818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UD – The re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and find objects. Objects delet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 CreateObjec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AllObject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MatchingObjects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yFactory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Author = myFactory.Cre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sultSet = myFactory.FindAllObject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1507-23DD-4BFA-948B-979E4C5244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ary Ke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y keys can be generated; either auto-incremented integers or globally unique 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also supports "meaningful" primary keys and generates different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 = titleFactory.CreateObject("TC7777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understands correlation tables and generates special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 = taFactory.CreateObject(title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primary key generation strategies can be implemented outside the frame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B989F-D92C-4C0F-887B-3DAAD6007B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6:53Z</dcterms:modified>
  <cp:revision>78</cp:revision>
  <dc:subject/>
  <dc:title>Neo Design Goals</dc:title>
</cp:coreProperties>
</file>