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FDBCA-2660-453B-89E4-7681C836B2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01D14-300A-4D2F-92F1-96FFB6B079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890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80685-7831-4779-A985-D697483688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1426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1426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890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890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B1C1B-2332-4CFD-AC5A-975B4C22B6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A959C-3A76-4FE2-9900-883D6CE81C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F8A83-4E62-407C-8DE0-56FB498877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D4713-51AD-4440-8CED-2932FCB0BF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578F7-D911-4B81-8410-9499EB76BC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47920" y="22824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E3905-296B-4E35-A0F5-6AA9D8F1D7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BEC48-1A89-4E4B-8CF9-25B50A71DE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890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B2D9C-18BD-4E4D-991A-58A6C85E44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F4FCB-2C0B-41FE-A17E-9ECEB6AAD6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7621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52280"/>
            <a:ext cx="106704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150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620120" y="228240"/>
            <a:ext cx="1218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EEA33-E85C-4773-BF53-4D621A6C5C63}" type="slidenum">
              <a:rPr b="1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19692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66"/>
                </a:solidFill>
                <a:latin typeface="Impact"/>
              </a:rPr>
              <a:t>Ne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09480" y="1219320"/>
            <a:ext cx="78487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.NET Entity Objec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http://neo.codehaus.or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Patterns and Best Practic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613560"/>
            <a:ext cx="914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Verdana"/>
              </a:rPr>
              <a:t>Copyright © 2002-2003 Erik Dörnenburg – Last updated: December 20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vide custom qu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3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ption 3: Use internal relation and handwrite loop with comparison; improved performance over option 2 but slightly more cod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Publisher.c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TitleList GetTitlesWithMinRoyalty(int 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List l = new TitleList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each(Title t in this.Titl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(t.Royalty &gt; r) l.Add(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l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31B21-51C6-4918-83A6-97F3738DE09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vide transparent many-to-many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3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Task: Given a title find all its auth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olution: Add a method to Tit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Title.c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AuthorList GetAuthors(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uthorList l = new AuthorList 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each(TitleAuthor ta in this.TitleAuthor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.Add(ta.Author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l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74EAE-4913-4C52-B0FC-15DAD989C79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vide transparent many-to-many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olution: Add a method to author and/or tit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Author.c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AddToTitle(Title title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AuthorFactory f = new Title…(Contex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Author ta = f.CreateObject(title, this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Title.c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AddAuthor(Author author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AuthorFactory f = new Title…(Contex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Author ta = f.CreateObject(this, author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98895-7141-433C-BA1B-B5D2B30FA9A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ntityMap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e entity maps sparingly and access through contex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EntityMapFactory f = context.EntityMapFactor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EntityMap map = f.GetMap(typeof(Title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17A82-26CA-4E81-BB1A-EDDCBA09635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Aft>
                <a:spcPts val="1500"/>
              </a:spcAft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protected rel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Aft>
                <a:spcPts val="1500"/>
              </a:spcAft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custom quer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Aft>
                <a:spcPts val="1500"/>
              </a:spcAft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transparent many-to-many rel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Aft>
                <a:spcPts val="1500"/>
              </a:spcAft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entity maps sparing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AD697-6C7E-4FFE-9B07-A60E6ED8BB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protected relation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3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Task: Given a publisher find all its tit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orst case: Implementation using factories directly in code-behind or some controll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MyController.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Factory f = new TitleFactory(myContex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List l = f.Find("Publisher = {0}", pub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495CC-8BE2-4DBD-8B5B-BA87AECD29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protected relation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3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mprovement 1: Declare an iref in schema and use public rela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MyController.c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Relation l = pub.Title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a copy if 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MyController.c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List l = new TitleList(pub.Titles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B19DD-E746-4295-830E-04FC445C322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protected relation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3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mprovement 2: Make relation protected (in the template for base classes) and provide access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Publisher.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TitleList GetTitles(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new TitleList(this.Titles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AddTitle(Title aTitle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his.Titles.Add(aTitl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MyController.c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List l = pub.GetTitles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9D9D4-39F3-4D9B-A048-F7FC516C5E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vide custom qu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3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Task: Given a publisher find all its titles with additional criter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orst case: Implementation using qualifiers directly in code-behind or some controll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MyController.c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Factory f = new TitleFactory(myContex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List l = f.Find("Publisher = {0}" +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"and Royalties &gt; 1000", pub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8C74B-C65F-4767-9619-64B47BCB4C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vide custom qu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3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mprovement 1: Move code into entity objec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Publisher.c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TitleList GetTitlesWithMinRoyalty(int 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 several options *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MyController.c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 = pub.GetTitlesWithMinRoyalty(1000);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987E4-4F5F-4C02-97AA-B5374C9BC7C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vide custom qu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3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ption 1: Move query as i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Publisher.c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TitleList GetTitlesWithMinRoyalty(int 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Factory f = new TitleFactory(Contex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List l = f.Find("Publisher = {0}" +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"and Royalty &gt; {1}", this, r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l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1A62C-2E0D-4BB8-88A6-D266740E47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vide custom qu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ption 2: Use internal relation; elegant and caching behaviour but has to bring all titles for publisher into mem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Publisher.c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TitleList GetTitlesWithMinRoyalty(int 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this.Titles.Find("Royalties &gt; {0}", r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89C18-F2E9-44FB-9067-9CA9851B45E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7T17:55:34Z</dcterms:created>
  <dc:creator>Erik Dörnenburg</dc:creator>
  <dc:description/>
  <dc:language>en-US</dc:language>
  <cp:lastModifiedBy> </cp:lastModifiedBy>
  <dcterms:modified xsi:type="dcterms:W3CDTF">2004-05-19T07:30:21Z</dcterms:modified>
  <cp:revision>79</cp:revision>
  <dc:subject/>
  <dc:title>Neo Patterns and Best Practices</dc:title>
</cp:coreProperties>
</file>