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B8EF-B461-4E71-822C-5EFEAE2EB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76DD-865C-418A-AAE7-25D6D5DD1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D4AE-155A-41C7-AF4D-4CD38EA20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5198-09CD-4EE6-9781-BA964060C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FAEAE-03DB-429E-96D2-1F096B2EB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AE452-350C-4BD8-9341-874166A07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2583-54B4-4DCC-86DA-FCF20206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37768-B34F-4C5B-A52D-B0D5CB06C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CF4B-21E0-4727-91A9-B28B622FA9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D079-2A5E-4AC6-A99E-A16639991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2D26-2FA3-46B9-992B-C2C4D96AE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6BE7-CA7B-4D16-951D-5D2B07713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AFBA-A747-45C6-94B2-DD0FF3D70131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December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B71C-8295-4A27-A171-4CD5031290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EB2B-4A4E-46BA-9CD9-04349E9999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5507-6B7C-4F65-9A26-98F9D1780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583B-1A46-412C-B48F-CB9BD70F7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1413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413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03516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64000" y="234936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234936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92200" y="5648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1413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0040" y="28065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5280" y="47242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0560" y="5191200"/>
            <a:ext cx="0" cy="460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5661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Oracle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96000" y="5661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rebirdData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1280" y="5445000"/>
            <a:ext cx="439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1000" y="5435640"/>
            <a:ext cx="0" cy="21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94640" y="5445000"/>
            <a:ext cx="0" cy="21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A44B-B5B1-4F68-8AC8-DC4D1339E4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E8DA-7B95-484F-A47F-3F473F554D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622E-5279-4712-8883-4A02264310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8DD0-1A32-4B97-9722-5BD41A41CE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0CCDD-2F9C-4E39-9ABE-F06F822D20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5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StringPkInitializ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ew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BF26-7C9E-44AC-876A-E06646C497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F2B71-A5B2-40BC-ADE5-54439C353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416C-5379-481F-BFEE-CF9C22805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1C9B-1FBF-43FA-8A1A-E23503C74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E80D-81E9-4EBD-8EB3-AA75BF73B5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D21A-B5C0-4827-A2AE-3C85B204CB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467AC-C4A2-4847-B365-DDBF2494E2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6CC6-F81E-4C7B-A946-49A6B065D1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3E41-0D06-4B91-A966-ACE09EA414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12-07T14:04:49Z</dcterms:modified>
  <cp:revision>73</cp:revision>
  <dc:subject/>
  <dc:title>Neo Architecture and Implementation</dc:title>
</cp:coreProperties>
</file>