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DFD1-E5B6-41A0-8A47-2AC5C48DF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18EC-4DCE-4328-B980-1205F521F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2A73-E6C6-4B87-B6AD-9C8A01084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3937-6E16-4FF0-AD11-4573A2913F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34D8-5AD0-49BF-AD22-35257029E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4161-DF8D-40D4-9FDA-DFAA9BE9A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85CC-B289-4EF1-BEBE-5AAB1476D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319D-AE68-4F8C-AF56-3EDC4D025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2DBA-EAFF-485E-8F0D-3D746F801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D9FF-3FC3-445A-A0E5-180A3EE30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2E5C-A1D7-4B21-B66D-87FFD1B02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9867-12D5-4720-8494-3DE31025C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CC0-3282-486E-AA37-C89D4D09201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esign Go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4 Erik Dörnenburg – Last updated: May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ry Templa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create a query template that has the same properties as the corresponding entity object, including to-one relationshi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author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FirstName = "Nea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title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Publisher = a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find all objects matching the tem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s = factory.FindMatchingObjects(templ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78B9-00CD-48A8-AC06-D277D6E438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Creation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define criteria for selections. They are normally constructed using forma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use inlined values and comprise multiple cla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'Neal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… ("name = {0} and locked = fals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provide a shortcut for simple match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Nam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include property path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Publisher.Name", 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DB33-C65E-42BE-8E6C-CED304DF6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Usag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use qualifi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f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ist = f.Find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 do collections and rel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list.Find("Advance &lt; 5000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publisher.Titles.Find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can also evaluate whether an object matches their criter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q.EvaluateWithObject(anAuthor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omething(an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A4C7-302A-4258-8B30-5D19FA892C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lete mod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Null deletes behave as exp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aTitle.Publisher == 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"It just works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cading deletes are supported and the last line in the following example will cause an exception to be thr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Autho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Autho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Title.Publication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3EEC-8F72-42F1-ABFB-A2CACE4AAB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Sepa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generated db properties are implemented in an intermediary class, AuthorBase for example. This should not be mod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Base :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La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itially, a subclass is generated but the developer is expected to modify it and the class is not re-generated when the schema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: AuthorBa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B456-3A37-4BB0-968F-581B07FD11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Gene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is generated automatically in VS.NET using a custom tool. The source file containing base classes, factories etc. is hidden "behind" the XML schema defin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nd line tool available for scripted buil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14560" y="2781360"/>
          <a:ext cx="669744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781360"/>
                    <a:ext cx="66974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9EC8-992C-4D48-A408-30BA0DF3EA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 Goals (review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28480" y="1143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848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480" y="2209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480" y="2819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848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3886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48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640" y="4495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3903-2984-4F71-9EA0-70614B87F8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Neo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o is a framework for .NET developers who want to write enterprise applications with an object-based domain model. It is well suited for domain-driven design and agile develo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AB72-D9AB-4687-8F0C-FB83FF5A9B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ion and Design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BC85-6C7B-4F53-AD56-F034FDA66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db columns; attributes in ER-Modelling te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irst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irstName = "Neal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AA83-62A2-4130-AB86-7F45902746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ived 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 code adds new (derived) attribu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FirstName + " " + LastNam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ndistinguishable from db proper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ull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ullName = "Neal Stephenson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111C-8C57-476C-8059-73E0B9912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One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related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simple object assign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 = aTitle.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thePublisher.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Publisher = another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F926-78B2-4895-B6C1-7AEF21B28D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Many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has (typed) collection for related obj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Relation Titles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Relation : ILis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 this[int index]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Coun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dentical to .NET collection patter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hePublisher.Titles.Count &gt;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Titles.Add(another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s are loaded on first access (Lazy-Lo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6782-22DB-48AB-82FB-BCE3E0A86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UD – The re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and find objects. Objects delet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 CreateObjec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AllObject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MatchingObjects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yFactory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Author = myFactory.Cre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sultSet = myFactory.FindAllObject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4F13-A03A-4A1E-B803-216D4EC3EF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ary Ke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y keys can be generated; either auto-incremented integers or globally unique 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also supports "meaningful" primary keys and generates different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 = titleFactory.CreateObject("TC7777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understands correlation tables and generates special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 = taFactory.CreateObject(title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primary key generation strategies can be implemented outside the frame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8088-0122-4ED8-823D-E371CABEEA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6:53Z</dcterms:modified>
  <cp:revision>78</cp:revision>
  <dc:subject/>
  <dc:title>Neo Design Goals</dc:title>
</cp:coreProperties>
</file>