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78FD-A4F9-4522-A99A-0699CBDFB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5D82-FAED-4617-8D88-6B1057264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155B-21C5-43B7-B02E-00C8A14B1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9E5D-2C5F-4855-95E2-07E5BCDC0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F95C-44A4-4D6E-8412-B959325979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6EC4-AB59-4EEA-B74E-488161F89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58CD-7332-4EAB-8C73-CA0899CD2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F9EF-0497-4429-B915-B1FE071ED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62A3-1C4D-4DA9-A125-221DDF4E7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20F4-5EEC-414E-8085-DB3E29F1E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8F79-B313-4F7C-A3AE-2B7A1918E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2957-0FB0-41B7-941E-34D5170AD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A1A7-E143-495B-8763-680AF57AD8E0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atterns and Best Pract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3: Use internal relation and handwrite loop with comparison; improved performance over option 2 but slightly more co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 t in this.Tit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.Royalty &gt; r) l.Add(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9B73-4539-445D-A6E5-E95D1A7D95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title find all its auth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GetAuthors(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 = new AuthorList 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Author ta in this.TitleAutho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.Add(ta.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8EF1-00EF-4614-B112-D92C68D349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author and/or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Autho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oTitle(Title 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itle, thi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Author(Author author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his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8A6F-77EC-46E3-83F5-C0A276E0BE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tityMap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entity maps sparingly and access through contex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Factory f = context.EntityMapFact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map = f.GetMap(typeof(Title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3831-9467-459C-9472-CABB960AAE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transparent many-to-many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entity maps sparing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C321-35BE-45AB-BE71-50D2EEAF6A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factorie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804F-182E-4C94-A975-A34E340093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Declare an iref in schema and use public re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Relation l = pub.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a copy if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pub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1DE9-9E25-46A2-B7A2-B09D25FBCB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2: Make relation protected (in the template for base classes) and provide acces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TitleList(this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itl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s.Titles.Add(a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pub.GetTitl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968D-38B6-4832-8406-F9DB71C707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 with additional crite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qualifier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ies &gt; 1000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4CB1-D8DE-4C53-8882-4A5F97DFBC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Move code into entity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 several options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 = pub.GetTitlesWithMinRoyalty(1000);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1430-C740-41D2-95A8-47BDE795B9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1: Move query as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y &gt; {1}", this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2791-B0EB-438B-80DF-D8660F4B24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2: Use internal relation; elegant and caching behaviour but has to bring all titles for publisher into mem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his.Titles.Find("Royalties &gt; {0}"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B80B-CD67-477C-867C-07EA3C4598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30:21Z</dcterms:modified>
  <cp:revision>79</cp:revision>
  <dc:subject/>
  <dc:title>Neo Patterns and Best Practices</dc:title>
</cp:coreProperties>
</file>