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D0C37-6B38-4D02-B67B-97408C68DA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39EB4601-DEC8-4F5A-AC6F-ABCC726A9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F4384D35-19EE-4AB4-B4D5-8FDC43A8D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BDF51980-1105-4EE5-B1A9-84B15412C8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C02F9F96-DD21-4B1A-8A0B-9EF8BCF84A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1E1D4EFB-EA93-4B14-85A2-94D8C8D563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5BFC2CEC-CC60-4C49-B75A-2A117122EB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EF04961F-B593-4E73-813E-2BB727414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A7B86DDB-F478-4084-8AEE-571ACA327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BF0EB4FB-3E8D-49C4-95A1-E5C829D04F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9DAE8D5C-FE4A-4779-8D62-ED72BC13B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DD946FAA-A8E7-42AD-87F8-A472AF050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5101-ED42-4308-95B7-678DFDC8B5D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codehaus.org</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The VisualStudio tool is part of the Tools solution and builds with it. </a:t>
            </a:r>
            <a:endParaRPr b="0" lang="en-US" sz="1100" spc="-1" strike="noStrike">
              <a:solidFill>
                <a:srgbClr val="000000"/>
              </a:solidFill>
              <a:latin typeface="Verdana"/>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100" spc="-1" strike="noStrike">
              <a:solidFill>
                <a:srgbClr val="000000"/>
              </a:solidFill>
              <a:latin typeface="Verdana"/>
            </a:endParaRPr>
          </a:p>
        </p:txBody>
      </p:sp>
      <p:sp>
        <p:nvSpPr>
          <p:cNvPr id="4" name="PlaceHolder 3"/>
          <p:cNvSpPr>
            <a:spLocks noGrp="1"/>
          </p:cNvSpPr>
          <p:nvPr>
            <p:ph type="sldNum" idx="1"/>
          </p:nvPr>
        </p:nvSpPr>
        <p:spPr/>
        <p:txBody>
          <a:bodyPr/>
          <a:p>
            <a:fld id="{B8501320-E5D3-4D1B-9E3D-1935773A13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Select your schema file and open the properties window.</a:t>
            </a:r>
            <a:r>
              <a:rPr b="1" lang="en-GB" sz="1100" spc="-1" strike="noStrike">
                <a:solidFill>
                  <a:srgbClr val="000000"/>
                </a:solidFill>
                <a:latin typeface="Verdana"/>
              </a:rPr>
              <a:t> </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 In the advanced section select ‘Content’ as Build Action and enter ‘NeoCodeGen’ as the name of the custom tool.</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 Modify and save the schema file. Alternatively, you can right click on the file and choose ‘Run custom tool’ from the context menu. That’s it!</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 If you receive and error message stating that the templates could not be found you have to add/modify the neo processing directive in the schema file such that the ‘path’ attribute points to a location where the NeoClass.vtl and NeoSupport.vtl files can be found. </a:t>
            </a:r>
            <a:r>
              <a:rPr b="1" lang="en-GB" sz="1100" spc="-1" strike="noStrike">
                <a:solidFill>
                  <a:srgbClr val="000000"/>
                </a:solidFill>
                <a:latin typeface="Verdana"/>
              </a:rPr>
              <a:t>Note:</a:t>
            </a:r>
            <a:r>
              <a:rPr b="0" lang="en-GB" sz="1100" spc="-1" strike="noStrike">
                <a:solidFill>
                  <a:srgbClr val="000000"/>
                </a:solidFill>
                <a:latin typeface="Verdana"/>
              </a:rPr>
              <a:t> You may need to restart VisualStudio for it to pick up the change.</a:t>
            </a:r>
            <a:endParaRPr b="0" lang="en-US" sz="1100" spc="-1" strike="noStrike">
              <a:solidFill>
                <a:srgbClr val="000000"/>
              </a:solidFill>
              <a:latin typeface="Times New Roman"/>
            </a:endParaRPr>
          </a:p>
        </p:txBody>
      </p:sp>
      <p:sp>
        <p:nvSpPr>
          <p:cNvPr id="4" name="PlaceHolder 3"/>
          <p:cNvSpPr>
            <a:spLocks noGrp="1"/>
          </p:cNvSpPr>
          <p:nvPr>
            <p:ph type="sldNum" idx="1"/>
          </p:nvPr>
        </p:nvSpPr>
        <p:spPr/>
        <p:txBody>
          <a:bodyPr/>
          <a:p>
            <a:fld id="{9A25E74D-B6BF-4CCE-951A-8918425DC1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The user class files, Author.cs for example, are created into the same directory that the schema is in. (Provided the file does not yet exist.) </a:t>
            </a:r>
            <a:endParaRPr b="0" lang="en-US" sz="1100" spc="-1" strike="noStrike">
              <a:solidFill>
                <a:srgbClr val="000000"/>
              </a:solidFill>
              <a:latin typeface="Times New Roman"/>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r>
              <a:rPr b="1" lang="en-GB" sz="1100" spc="-1" strike="noStrike">
                <a:solidFill>
                  <a:srgbClr val="000000"/>
                </a:solidFill>
                <a:latin typeface="Verdana"/>
              </a:rPr>
              <a:t> Note:</a:t>
            </a:r>
            <a:r>
              <a:rPr b="0" lang="en-GB" sz="1100" spc="-1" strike="noStrike">
                <a:solidFill>
                  <a:srgbClr val="000000"/>
                </a:solidFill>
                <a:latin typeface="Verdana"/>
              </a:rPr>
              <a:t> If you are using ReSharper and have more than 50 Entities it can take a long time to add the highlighting to that file.</a:t>
            </a:r>
            <a:endParaRPr b="0" lang="en-US" sz="11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117D52C8-9E28-40BE-8ABC-B8BAB47D8EF4}"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 </cp:lastModifiedBy>
  <dcterms:modified xsi:type="dcterms:W3CDTF">2004-12-07T13:48:13Z</dcterms:modified>
  <cp:revision>73</cp:revision>
  <dc:subject/>
  <dc:title>Neo VisualStudio Tool Guide</dc:title>
</cp:coreProperties>
</file>