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5804-18AE-46EB-98DC-BADA85ADC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AF75-393D-4B3E-A7BA-168ECEEE6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ED49-5DD2-4524-BF33-5DF290393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782D-0392-4858-99F9-1E873764FA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920E-37FD-412D-A90D-59654BB0E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2C5A-C1DA-45FE-94FE-1847C0F59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189A-251F-4DDF-B171-2A3C21A19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F8E4-1DB8-4219-B215-7F67645DB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9A37-00EC-4921-87B5-EEB888289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4AB8-D929-4667-9DFF-32A4A4376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78E9-322D-4628-BC4B-4648CCF21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39AB-4C01-4F9A-80EB-26CC6D7F8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07D2-A3EF-4C54-B55E-3C7D99B83BC6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4 Erik Dörnenburg – Last updated: December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context relies on its internal DataSet to track changes (creates, updates and deletes.) It provides methods to save or get th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Collection 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can be added from other ADO.NET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MergeDataSet(a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ImportRow(aDataR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entity objects in a specific context; they use the context passed to the construc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= new Author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14DC-6CDD-4423-BDF5-6785106C74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ata St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data store is responsible for retrieving and updating the backing store for the con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DataStor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Table Fetch(IFetchSpecification f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Save(DataTable t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BeginTransactio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uses a data store to retrieve objects and sav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pecial data store could act as a façade for other data stores. I could select an appropriate store for a request and forward the requ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3E77-7C33-488E-AB22-3049893E6F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isconnected cli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contexts can work without a data store and take data directly from a Data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some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allow indirect access to their internal DataSet so that changes can be made persist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s = 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do something to persist these change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maybe send dataset to a server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succ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89EF-3FC7-400E-80AE-91391CC9B5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redistribute database generated k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generates temporary (negative) primary key values. Data stores provide a mapping from these temporary keys to the actual db val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 = new PkChangeTable("job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.AddPkChange(row["job_id"], actualKeyV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in distributed environ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anges = client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rverContext.MergeDataSet(chang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kctArray = serverContext.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UpdatePrimaryKeys(pkctArra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80060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rchitecture: PkChangeTab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0D73-24DA-455C-8EC5-C013CFD7C7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Main cla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1413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413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303516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234936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234936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92200" y="5648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1413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0040" y="28065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47242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0560" y="519120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5661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racleData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5661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irebirdData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5445000"/>
            <a:ext cx="439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1000" y="54356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94640" y="5445000"/>
            <a:ext cx="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A638-7991-46E7-AFE8-978BEFDAA9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eo.Core and IEntityObje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EntityObject and a specific constructor are the minimal interface for an entity obje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o.Core.ObjectContext Context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Data.DataRow Row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omeClass(DataRow row, ObjectContect ct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core classes use IEntityObject only and do not impose the EntityObject/Base/User Class structure. Consequently, Neo.Core could be used to implement alternative entity object mode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0F14-664A-4B91-9F68-03F5CA122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FetchSpecific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etchSpecification is used to select objects in object contexts and data s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FetchSpecification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EntityMap EntityMap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Qualifier Qualifier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tchSpecification is a straight-forward im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FetchSpecification : IFetchSpec…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FetchSpecification(IEntityMap m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ery Templates implement IFetchSpecifi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665F-5D33-4C4F-B881-32A34EDF29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vides information about the mapping between database tables and entity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ype ObjectType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TableName { get 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[] Columns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GetColumnForProperty(string pro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ADO.NET schema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UpdateSchema(DataTable table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provides an abstract implementation that is subclassed by generated classes, one per entity. This is likely to change; always use interf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9D11-D64C-47C1-B647-E2D51C1488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Factor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map factories provide access to entity maps by table name or object typ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string tab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GetAllMap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aultEntityMapFactory is standard implementation that searches for IEntityMap implementers in all linked assembl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355E-6012-41C5-9A0E-19E96D03AF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PkInitializ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ains a single method which must initialise a new database row. If scheme involves pk values provided by the application they are passed 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PkInitializ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InitializeRow(DataRow row, object arg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has 5 implement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User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Native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Guid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GuidStringPkInitializ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NewGuid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E4C9-B430-4111-80E3-24570792F2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ig Pi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.Data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view of the main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gory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A992-5ACB-4D3F-8531-1621247F6C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ADO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56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65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69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DB05-1978-4169-B0DA-BB62571100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very entity object has a reference to its DataRow and to the context it belongs 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ataRow Row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Context Context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is stored in directly in r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Row["au_fname"] = valu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Row["au_fname"]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 how property names and column names can be mapp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E3AC-2C05-4863-8B85-45C4CD66E4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one relation properties take the value from the related object and set it as foreign key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w["pub_id"] = value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use the context to find the object for the foreign key value in the related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(Publisher)Contex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Object("publishers", Row["pub_id"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2E65-CCCC-4BED-99A7-845B573C2E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many relations are managed by and exposed as typed 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readonly TitleRelation 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relation collection objects have a reference to the object that owns the relation and a cache for the objects in the re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ublishe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80060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7560" y="4572000"/>
            <a:ext cx="3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480060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5334120"/>
            <a:ext cx="4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257800"/>
            <a:ext cx="5936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DF18-744F-406F-8B82-AE26719017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lation objects work much like the relation properties. They manipulate the foreign key column of the affected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Owner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emov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nul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use the context to find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tected void Load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nerList = Owner.Context.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B46A-67F7-4D73-B1B3-65FD9BA39A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MS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104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113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117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A96A-EBE7-4C91-A6FE-4B4BDBB7A3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plications create as many contexts as requi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actually handles all of the CRUD operations, other methods are just a faç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ObjectContex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Object CreateObject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AllObjects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DeleteObject(IEntityObject anObjec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440F-6D7E-4CE7-AE47-30B9C02489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12-07T14:04:49Z</dcterms:modified>
  <cp:revision>73</cp:revision>
  <dc:subject/>
  <dc:title>Neo Architecture and Implementation</dc:title>
</cp:coreProperties>
</file>