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7C112-8FAC-4147-B397-497E77FB01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45439-2D72-451E-AEC0-C3699299F7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EEFBE-F364-477B-90AD-6E14A81C80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BB399-04F9-4555-993E-37A5AE8F33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4D463-FB19-4D6F-BB70-18FA90164D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4CE2B-1300-48C2-BC3E-8437EF0480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D9A85-7890-4757-96F0-91555E2B889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EEBF9-D23A-4865-8680-22D27A4909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8A243-F6ED-4161-AA1F-CCFE9C89BEB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58FA6-5419-45FE-A301-FBA4C7073B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2A671-D1E5-49A1-A7C5-30DD6107A8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A227D-F26F-4A8A-A50B-C411243081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13033-93AA-47FF-8B73-35CB8912D7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20F91-133D-42BB-836E-6F3BECC9D1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5C37F-F325-4E90-9417-767EA82F64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B3430-C757-47E8-B458-05383E9D94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D8825-32DD-42DF-A18D-B75D096649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9C6E7-0C50-440B-88B1-FBC84D18F6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F0019-C18A-47A4-BFE8-1D2F3A7848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F714B-A336-43AF-A333-3445F34E80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5DDD8-5C6F-4ECD-A13D-EDD8868925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A62A7-48E4-4712-9D54-4161F96338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FF671-BD86-44C2-8FF0-AC02D00D8B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C0FD1-0AA2-4405-81B2-6D29046CC0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2CF6-37E4-4FB9-B93A-762382841379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D611-DF82-4BD6-B523-B644965AD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TESTing...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10680" y="2833200"/>
            <a:ext cx="85201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6T13:20:39Z</dcterms:created>
  <dc:creator/>
  <dc:description/>
  <dc:language>en-US</dc:language>
  <cp:lastModifiedBy/>
  <cp:lastPrinted>2017-09-26T13:20:39Z</cp:lastPrinted>
  <dcterms:modified xsi:type="dcterms:W3CDTF">2017-09-26T13:20:41Z</dcterms:modified>
  <cp:revision>1</cp:revision>
  <dc:subject/>
  <dc:title/>
</cp:coreProperties>
</file>