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ABF29-DF65-4008-8A10-79DDC5D584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03F9D-06B9-400B-B7A9-D8173AC593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7C102-F7DF-4257-BE76-F53247E678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EBA38-DEA4-4F97-866C-EFF82D5253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8FA9B-24A7-4608-B348-1272A711EF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ECD28-E48A-4B6A-A7C0-E7A9BD9B75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78B56-FF27-444F-AC95-1DA679D6AC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EC213-DA3F-4CC3-9408-461E805BF1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AB09D-E8AE-45B9-A236-9F865A4E85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2F2CB-D23D-485D-B2CB-BCDC8A2374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5B7DF-890A-4979-A876-D4740F06CD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BB55F-F2B9-440E-97B0-FDB82B7A45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C5273-CA86-4674-8154-31AADA8552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11EBA-9764-42E7-8A37-8D7275C6B5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0E196-1D85-4FC1-82B3-18E2644CAA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9F491-69CB-4BF9-8A43-61E500451E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50FD0-5FAC-4BD5-A64D-EC1576F403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A9825-E83D-4AEA-BF90-B53D58317D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9CFCC-D56B-4193-874C-4D8267714F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92CBD-8F24-4B2F-99E3-47118EF565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ADCA0-A6F7-4C85-BD45-ED9D88876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F6091-D830-4DDD-8F9F-2622DFA22E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AD179-78A9-468B-A037-B41D8ED577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786BA-102C-4FC9-8548-ADAB8942EA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D6F2-774D-46BD-9F17-0A75DC4B74C2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CCB9-FF89-4E3F-837C-6A7F0A446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ESTing..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10680" y="2833200"/>
            <a:ext cx="85201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13:20:39Z</dcterms:created>
  <dc:creator/>
  <dc:description/>
  <dc:language>en-US</dc:language>
  <cp:lastModifiedBy/>
  <cp:lastPrinted>2017-09-26T13:20:39Z</cp:lastPrinted>
  <dcterms:modified xsi:type="dcterms:W3CDTF">2017-09-26T13:20:41Z</dcterms:modified>
  <cp:revision>1</cp:revision>
  <dc:subject/>
  <dc:title/>
</cp:coreProperties>
</file>