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2F54-C1A5-4AED-B948-F819E2DEA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4462-E24E-45AA-A0C3-E94D052FB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B631-26E4-47EC-91BA-03D8EE77E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00E3-5701-4A80-8F34-9C06DE8D4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6A5B-CE5A-4BBF-B1FF-42226090D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BE30-F770-4C98-A118-23F555F51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14F2-A245-4D18-B8FF-270A51106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3B55-03D9-490D-A4DE-8178DEA39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C2F2-0576-4FDF-8AE8-D3BA78416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D667-DAC1-4F76-994D-4AA242B7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1F21-97C0-4776-8A88-EB61FE3C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85E7-5CAD-4633-930C-B9EA6E9C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135243-FDA8-46CC-8EA1-75510245E50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a sample powerpoint document which is used to test indexing power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ipla</dc:creator>
  <dc:description/>
  <dc:language>en-US</dc:language>
  <cp:lastModifiedBy>cipla</cp:lastModifiedBy>
  <cp:revision>0</cp:revision>
  <dc:subject/>
  <dc:title>GROOMING</dc:title>
</cp:coreProperties>
</file>