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EE2C-31F9-4BE5-B0A6-40143FBB4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BE0D-1361-4BEA-89D3-4BB7A92B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3ABA-BE10-4155-9B53-06921C04D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FCF8-83F2-4AEB-9C10-43BA4FA95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FD93-2C82-4939-9C3B-A4AA325A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09F5-E313-40FF-B16F-16510F48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FB2F-4D67-4B11-B944-D944EAE5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B1F0-5827-44C7-A9CD-80D450BE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F50C-0DEE-4817-A6BE-87F1F264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7639-AC37-4ACA-B6EC-6E77D34C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8B2F-74B6-4636-B7E7-DF40F40C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AD6C-D7B8-4788-9AD0-39C69D1E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D5400-D751-4435-BD9E-99F4CD3EC20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a sample powerpoint document which is used to test indexing power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ipla</dc:creator>
  <dc:description/>
  <dc:language>en-US</dc:language>
  <cp:lastModifiedBy>cipla</cp:lastModifiedBy>
  <cp:revision>0</cp:revision>
  <dc:subject/>
  <dc:title>GROOMING</dc:title>
</cp:coreProperties>
</file>