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7932B-17AB-4BB1-93D5-230952A1BD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ED244-CEAA-459F-BD92-D494D1B69C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A2DAD-849B-42D7-B0DC-529903B6FC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300B1-64CF-4B4F-92ED-CB9633FA8D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9BF8F-9C80-495A-B817-DCD6CE5145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620B0-37D8-4B57-99B9-6875696855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4C2F3-1ECC-48A7-877E-CBBA29576E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F0B90-F07C-490C-90E0-B5E61DAF8A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220D0-250B-4026-BBBA-16BFAD352C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18CEE-32F8-49BA-A0CF-8079D9A64E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7CB7C-D17C-4F54-BA45-EC403E4B44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9BEB8-742F-4655-A3E9-6D9D2A4401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89A0D-3C21-4179-B81C-02C47E47ED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CC3B6-67F0-4E9A-A116-CB7CFA5BBF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12075-80F8-4770-8AAF-D4CB6A2ED3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51B8F-A8CA-455A-B59F-D7C347E545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0F0D8-826D-4D20-8D7D-1A192C326C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C8742-6721-4119-9926-E22D50506E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A5928-523B-4A15-8D16-A2B1661A68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38BC7-7CCB-4FF9-92FE-657F3A6276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C61C7-4945-43A2-9013-560EF652FE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07B42-0434-483B-ABE4-74417914B7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5EB6D-13F5-4856-B421-C4955804E6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CFB90-B760-4FDC-8EEE-D20CB53CFF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4B8B-3E93-4E13-87CF-3EB7B0A35744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5BDE-45BE-43C9-A871-4D20A2AF2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TESTing..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10680" y="2833200"/>
            <a:ext cx="85201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6T13:20:39Z</dcterms:created>
  <dc:creator/>
  <dc:description/>
  <dc:language>en-US</dc:language>
  <cp:lastModifiedBy/>
  <cp:lastPrinted>2017-09-26T13:20:39Z</cp:lastPrinted>
  <dcterms:modified xsi:type="dcterms:W3CDTF">2017-09-26T13:20:41Z</dcterms:modified>
  <cp:revision>1</cp:revision>
  <dc:subject/>
  <dc:title/>
</cp:coreProperties>
</file>