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2B9FA-0B0D-4553-B8A4-80CBB81F45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66772-8EBD-4B88-AEED-5C8772A269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30EFC-0471-415A-BF10-950970040B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9140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7212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1068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9140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7212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EB044-52AE-4251-9A2C-5CD4569593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3EE57-FBB0-4A7E-9B2F-7832F030EB6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7DAA7-DE5D-4AE9-B6F7-A7A763DC8DD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20312-30B3-439D-AF38-39492CB27ED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5ED33-BCF0-4B8B-9406-53A9FDED83D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E87E3-D037-4187-BC85-41A5864AE3A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10680" y="444600"/>
            <a:ext cx="852012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92E60-6DD8-43FC-8DA2-875685F5659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91161-A679-4AAD-BA9E-F8A71BF357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4E825-F6FF-4D28-86A5-67C9B69C6C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58E02-9ABB-4AD7-9BBE-3302CEA1413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D33EB-119D-4E9E-BD35-285E6774F1C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6F4E7-F6A8-4D0B-8110-A6E032D58C8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F0C5F-7CF9-408D-A87C-031B5B2E3D9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9140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7212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1068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19140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7212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51077-196B-47AF-9EDD-F85B8A6108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674AC-F2CD-4E1E-92E1-A4FE909600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ABD4B-B55C-47A8-8C1B-B37F1D1EDB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99BB1-251B-4336-BD3E-425BEB91C0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10680" y="444600"/>
            <a:ext cx="852012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41DD5-8E00-40CA-8088-23DE4DC69D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E1467-EACA-4CAC-B1BF-CE6A24E668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961C3-71D0-4FD4-8549-0DA802F18D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DCF8B-3766-4037-83A4-DD3E499F6B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9595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0D60B-6CD4-4527-8D5A-46708B1ACC48}" type="slidenum">
              <a:rPr b="0" lang="en-US" sz="10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Num" idx="2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9C52D-B311-4598-855A-FEB4D00AC6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TESTing...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310680" y="2833200"/>
            <a:ext cx="85201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6T13:20:39Z</dcterms:created>
  <dc:creator/>
  <dc:description/>
  <dc:language>en-US</dc:language>
  <cp:lastModifiedBy/>
  <cp:lastPrinted>2017-09-26T13:20:39Z</cp:lastPrinted>
  <dcterms:modified xsi:type="dcterms:W3CDTF">2017-09-26T13:20:41Z</dcterms:modified>
  <cp:revision>1</cp:revision>
  <dc:subject/>
  <dc:title/>
</cp:coreProperties>
</file>