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1380-21EB-4683-B88B-BEA0FCEF7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35C4-B3E4-4D47-B544-667424F16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C963-D4DE-4FDF-B067-1D39EE419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3022-0E3D-44F6-BE67-21F508C71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A93D-6E06-4787-AD64-DC5865466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5F3F-6137-4B9F-8C24-8696A145A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1E78-58CC-465D-8478-68D6796A0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3C95-1815-4FA5-A7B5-FFEBE7D96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A6ED-5DC7-4FB6-925E-DD88A925D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F1AA-C827-4937-AD53-82DF8FCD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003B-D647-4EC4-B5BA-0A607EE7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E5F6-EAA2-45CA-96B4-816DA703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A422D5-92C1-4C91-825A-D931FC5066F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a sample powerpoint document which is used to test indexing power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ipla</dc:creator>
  <dc:description/>
  <dc:language>en-US</dc:language>
  <cp:lastModifiedBy>cipla</cp:lastModifiedBy>
  <cp:revision>0</cp:revision>
  <dc:subject/>
  <dc:title>GROOMING</dc:title>
</cp:coreProperties>
</file>