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9F10E-C093-44DC-A3E5-D9F80C678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1CBBB-285C-49C0-B7D9-4FDD86C64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E6CF-7883-4A28-A3E5-807C4A4D60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C0D39-5A2E-40B5-BB4A-EAFCB26B2C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7C2C5-C792-4A27-B8D2-707119A4F29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D60D-C07F-43DB-9A9E-7B16E6203CA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C8CB8-FEA2-440B-8DEF-F920C94A49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AE304-20B6-4FAD-89BD-53DC4C58E6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4C8E7-3AAE-48B7-986B-2F448A10EAE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95E1E-F6A1-4B60-857B-2CF5C6AD50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20E2D6-85F1-489E-B3C0-AF3923C801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E76A8-1FFB-4A4B-A337-B8B650C6B9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49C1D-EC84-4952-85D0-1532CE991D4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55CE7-2A68-467C-9F9D-57C44F87C5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1D3AB-AE99-4367-A802-238572367B8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898CF-AF53-491E-AF55-00489E5E5D0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19140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72120" y="115236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1068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19140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72120" y="2936880"/>
            <a:ext cx="274320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80F55-83E7-4806-A0C6-42F92254F9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2479-E88E-4A0F-A106-36B9B248E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32EC0-C727-49E7-9DE9-980489381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6F385-B5BC-4CB2-B6D2-EB10441503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10680" y="444600"/>
            <a:ext cx="8520120" cy="26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7BEB3-E300-46E8-9ED7-03806A4B36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D7C7F-11EA-43E5-A24F-4235F15DE2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760" y="293688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7CA38-AFD8-4504-95D2-11E44E1126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1068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52360"/>
            <a:ext cx="415764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10680" y="2936880"/>
            <a:ext cx="8520120" cy="16293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2C63A-BCDC-4084-8E89-00EFCEBD24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0680" y="444600"/>
            <a:ext cx="8520120" cy="5731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0680" y="1152360"/>
            <a:ext cx="8520120" cy="34164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F51EC-F205-437E-A478-D16FD15AD64D}" type="slidenum">
              <a:rPr b="0" lang="en-US" sz="1000" spc="-1" strike="noStrike">
                <a:solidFill>
                  <a:srgbClr val="59595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8472240" y="4662360"/>
            <a:ext cx="549000" cy="3938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E5E34-ECA6-4499-85EF-31A462F3E6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10680" y="744480"/>
            <a:ext cx="8520120" cy="20527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TESTing...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10680" y="2833200"/>
            <a:ext cx="8520120" cy="7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6T13:20:39Z</dcterms:created>
  <dc:creator/>
  <dc:description/>
  <dc:language>en-US</dc:language>
  <cp:lastModifiedBy/>
  <cp:lastPrinted>2017-09-26T13:20:39Z</cp:lastPrinted>
  <dcterms:modified xsi:type="dcterms:W3CDTF">2017-09-26T13:20:41Z</dcterms:modified>
  <cp:revision>1</cp:revision>
  <dc:subject/>
  <dc:title/>
</cp:coreProperties>
</file>