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143080" y="695160"/>
            <a:ext cx="257184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F6E4-0580-4230-9D53-A4F4F55EA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260E-31CC-4FCC-AFAE-29EA93F4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F2860-6B67-408B-87B0-5EA8FD3B9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3962160"/>
            <a:ext cx="264852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C897-A337-4484-88EC-9D393E329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4C10-969D-477E-B148-075FAADD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8485-E05C-4A75-862F-50E03E1A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9B082-4B73-436D-8514-5498520F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9956-B0C1-4EDB-BA0B-9CFF97C9A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63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25B5-4CB9-45CC-944E-352EFADC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1597-881F-476D-8D2E-1E048EDA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396216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A4F5-FE7C-4992-8AE6-927B0ED74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2160"/>
            <a:ext cx="8226360" cy="21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FC34-E3B7-4CE3-A0BB-EDCD96D6F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E91D6B-B608-484C-AE5F-699B39FDA53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43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a sample powerpoint document which is used to test indexing power poi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ipla</dc:creator>
  <dc:description/>
  <dc:language>en-US</dc:language>
  <cp:lastModifiedBy>cipla</cp:lastModifiedBy>
  <cp:revision>0</cp:revision>
  <dc:subject/>
  <dc:title>GROOMING</dc:title>
</cp:coreProperties>
</file>