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F5B9-F203-4371-8EDA-67C6E6BA8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109F-F32E-4012-8AEE-FE46EF22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26CF-F6CB-411F-8481-155197BCA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A3F7-F41B-461F-96B3-4E7FFDFC6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910D-CA08-45C6-B691-CB64CA64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FA59-8461-4F17-AE3F-CE47E68F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EC30-8389-4365-9778-D232DC31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F26F-A5E1-4491-86C8-CDB7D9FF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905D-B1A5-4383-96D6-771E9AAB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2F92-ACA6-4E11-AAF9-10D4E3F1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2D2A-4CA1-41F6-A95A-78608CAA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575A-145B-4A9B-A779-E85902A5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34D99-61BE-4C4A-BCAD-E2CF2E926BA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a sample powerpoint document which is used to test indexing power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ipla</dc:creator>
  <dc:description/>
  <dc:language>en-US</dc:language>
  <cp:lastModifiedBy>cipla</cp:lastModifiedBy>
  <cp:revision>0</cp:revision>
  <dc:subject/>
  <dc:title>GROOMING</dc:title>
</cp:coreProperties>
</file>