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602CE-9773-46DC-AE1A-64D2D76DFB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7600C-2261-4BC0-9F8F-50455F4F1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981C0-703B-49FE-9FDE-1F478DFF4B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DADF0-72A1-4F48-B1A5-BC5C3CB172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1F6E1-EB46-4E8A-BE49-1332C711FA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5A656-C6E9-4D37-A6A1-4F1C9BE724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509A3-4C35-4334-9AD0-0BAEFE11C3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7438C-7CFD-4A36-B206-271F960125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CC2EA-E942-4971-B82F-DA9F93C681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E2BBA-5E26-48EA-AE46-B09EA726DC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22D21-8112-4F04-8C7A-7F4F458511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43D68-8067-42F1-8075-0B7ED25417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EBDD6-CE07-4059-A75E-6051E5FC4E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C842A-876D-4998-A3D5-FDE0942CBD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23B3B-9176-4A0A-9EF0-5A473A13D8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8865D-E56F-4623-BE6C-8040DA96A9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D0B21-DA44-432C-87B4-549B63C2DB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DA3A0-F24C-4068-B7DC-840C003AD4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FCC36-C67D-465C-8864-CCBB0DE116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68C2C-1D30-4B24-B31E-0AF7C9D2AB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7178D-8A0E-42B9-B70B-4AA557A067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D4D05-7864-4C89-B967-DA3DC496BF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2107B-E50D-495D-9448-3C133CCEB8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670E6-EF61-4661-A490-F8B6BB647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65A3-5E62-44F0-816A-4EDCBAD0926C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D805-1A5B-4379-BA9E-E873A4730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ESTing..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10680" y="2833200"/>
            <a:ext cx="85201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13:20:39Z</dcterms:created>
  <dc:creator/>
  <dc:description/>
  <dc:language>en-US</dc:language>
  <cp:lastModifiedBy/>
  <cp:lastPrinted>2017-09-26T13:20:39Z</cp:lastPrinted>
  <dcterms:modified xsi:type="dcterms:W3CDTF">2017-09-26T13:20:41Z</dcterms:modified>
  <cp:revision>1</cp:revision>
  <dc:subject/>
  <dc:title/>
</cp:coreProperties>
</file>