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19138-4C1C-4439-931B-3E61A6F26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ADF44-642A-4121-B833-47F8F45E8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983C9-3B24-470E-A232-4A1CF707E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DA228-EA9F-4571-BCC1-D3DC02199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D130E-D957-4402-85F7-9DA10CF46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073F0-22B6-470D-9BA9-EBFA61D61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0D4C3-4D47-4F2D-BA08-7FAFDC928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D16BA-8532-4C8F-98B6-0D8E469A7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AED8C-3438-426C-B85A-68D52F0B4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F3106-D666-4161-8E4D-BF009D5D8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685D0-807B-4E6A-ADB8-1C5E3FFCE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EE31A-886A-4498-BD61-E78DE5375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26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90C868-9D49-481C-8A20-32B1E8DAA47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816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a sample powerpoint document which is used to test indexing power poi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ipla</dc:creator>
  <dc:description/>
  <dc:language>en-US</dc:language>
  <cp:lastModifiedBy>cipla</cp:lastModifiedBy>
  <cp:revision>0</cp:revision>
  <dc:subject/>
  <dc:title>GROOMING</dc:title>
</cp:coreProperties>
</file>