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51B0-8889-4E34-9628-0F2B73A6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E121-DA19-4A48-B180-076C33DD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15CC-5F79-48A0-A69C-E7DE54144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5516-FF18-44F1-A893-0A7AE443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4D09-3127-4E18-9438-4FAE2338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5602-214E-490B-B8C4-8E88CE8D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394D-BB2C-4ED4-9470-803B79BC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A661-DC73-47D3-AC37-2703C125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F2F4-3294-4C50-BAEE-32DC8596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FCBE-02E1-4C05-8C01-56DA1A86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E639-78F3-4382-8BEA-A124FE08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4245-4714-4ADF-AD3C-0034FD3F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A5943-F807-4434-82ED-642F97F188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a sample powerpoint document which is used to test indexing power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ipla</dc:creator>
  <dc:description/>
  <dc:language>en-US</dc:language>
  <cp:lastModifiedBy>cipla</cp:lastModifiedBy>
  <cp:revision>0</cp:revision>
  <dc:subject/>
  <dc:title>GROOMING</dc:title>
</cp:coreProperties>
</file>