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CCCA3-165F-4F62-ACE6-CFB1182C51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847CC-417A-4396-B95E-A569485E2B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A7823-187F-4091-9D5A-8EA17CF0F7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08644-6F48-4F2C-98CE-2F3016D748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9AE4E-7601-4431-9FCF-03D3D047C8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21A7E-AC5F-44B8-9FE3-F216AEE6F7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C7691-DE06-4700-A9B9-2C3C1B9E40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3765D-9950-4A4A-AB4D-472D54BAC9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D1701-868B-422C-965A-3C6E2751F3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90889-9B53-4690-8432-02F4051EC3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83274-3C68-4D66-837D-5747E511D4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FB577-2BA1-4D55-9CAD-FC8E01E52E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04F82-4243-49EA-8559-F2AF798EF0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4788F-A8C9-4AB4-9B29-876D9CCD49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1E602-08DE-4C06-81D8-14D5D7D1E5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092A2-62F0-4E4C-9F7B-8EDF20A50B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529EC-9568-4984-9008-DFDA70FDF1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FBD7C-2B24-44AF-A2E0-5390250FA0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83B8B-40AF-45C0-A246-93022873E6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B24E2-78B8-40DB-98DC-6DFDCE0121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D82BA-6DD7-4FB7-A8A5-D33DB1E082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0A1E7-BD9F-4BA1-927E-534FB0885A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EB598-DA65-4B07-B9FB-3E27C8F550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9CEEA-FCEE-48C2-9725-E842B09879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F6D4-2B35-4FBD-9863-F6A649CCA6AC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1827-A3F4-4A0F-8CAA-ED33E5D18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ESTing..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10680" y="2833200"/>
            <a:ext cx="85201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6T13:20:39Z</dcterms:created>
  <dc:creator/>
  <dc:description/>
  <dc:language>en-US</dc:language>
  <cp:lastModifiedBy/>
  <cp:lastPrinted>2017-09-26T13:20:39Z</cp:lastPrinted>
  <dcterms:modified xsi:type="dcterms:W3CDTF">2017-09-26T13:20:41Z</dcterms:modified>
  <cp:revision>1</cp:revision>
  <dc:subject/>
  <dc:title/>
</cp:coreProperties>
</file>