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9FC44-015D-473A-A070-A9BE9A9874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9F476-8CE2-4BAE-8B16-E0AA3B737A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53302-B596-4647-A812-260AC3E6FF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B7089-56D1-4478-82DC-95B8BD31C3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F8F3C-738C-4F1E-AA06-F27CA20D2C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86C29-AD51-4A98-BF6A-D676A3391F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32DB2-A7B5-449A-91B7-84F518297D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3A5C3-68F1-47BF-8153-B32F3139A7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ABB0A-4F1B-44F0-AFF6-4EF939F464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23D18-FB2F-4B87-91A9-F072FEBDB5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46F95-D82C-48E4-9176-BCA84BA58C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0E0A9-C860-442E-A3AA-49502286FF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58D48-1A81-4EAF-9EA1-B8FB0E111D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71B7A-BA5D-41CB-A403-13C1DF084C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57CF8-6AEF-41B8-B08A-E211920BB3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FD113-5105-42FE-A5ED-657F87B47D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61CDE-4215-40A8-A464-2B2BB0660E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B96FF-6B9B-4F9C-88BD-6243B0D474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BE287-1B5D-4FB8-80FB-4454987789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2B7E7-4B15-4E6F-A2D9-3681B9A7A5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58EA1-0F87-44D1-B427-051761FFA1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7ED84-FC4D-4082-9C6D-A2F8F8717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B2D7F-E0A2-44D1-961A-0274E52952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98465-88B1-4667-8CCB-2D0DADFE6B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E0B1-6058-4F76-95DF-8B9201E37B1C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FEEC-F0F1-4289-9DEA-473431080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ESTing..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10680" y="2833200"/>
            <a:ext cx="85201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13:20:39Z</dcterms:created>
  <dc:creator/>
  <dc:description/>
  <dc:language>en-US</dc:language>
  <cp:lastModifiedBy/>
  <cp:lastPrinted>2017-09-26T13:20:39Z</cp:lastPrinted>
  <dcterms:modified xsi:type="dcterms:W3CDTF">2017-09-26T13:20:41Z</dcterms:modified>
  <cp:revision>1</cp:revision>
  <dc:subject/>
  <dc:title/>
</cp:coreProperties>
</file>