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6D20-CB9D-419A-945E-0916396A0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DD05-65A1-4332-9904-BB4147D8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B04B-6071-4E9C-A9EC-359B07330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E364-F89E-451D-B520-EF48F3AE6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A8DA-76D6-46BB-B5B3-18BBAD4A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81A3-2C19-425E-8F21-54DBFBEB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D5B5-C46E-438A-8C62-E64AB46F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8BED-79E1-4444-AD9B-D42ABDCE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B3B3-BFC9-4DA6-86F5-C6CDB9AA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A4A8-07F4-4B08-ABD2-0FEA358D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D599-43FC-42B7-9E1C-E576B7DC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9F5A-4FB4-4383-AC25-A9AB3F80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B37B2-9AC3-4764-B3A3-6FAFAB6BDA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a sample powerpoint document which is used to test indexing power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ipla</dc:creator>
  <dc:description/>
  <dc:language>en-US</dc:language>
  <cp:lastModifiedBy>cipla</cp:lastModifiedBy>
  <cp:revision>0</cp:revision>
  <dc:subject/>
  <dc:title>GROOMING</dc:title>
</cp:coreProperties>
</file>