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A72C-6FDF-44A7-9263-EA9A45DF9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6514-BFA6-4670-B0A2-BB074DA9F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D785-EACD-4F26-8709-48365CF4D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5896-984C-4FD2-A7C6-FFAB72D5D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95B0-99D6-447D-B050-330AD8203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DBF4-AF88-4B55-BA4B-B98E9F62F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D95C-3E46-4349-A870-46831F899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F99B-478F-40F7-B310-A566EDF75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85CF-6FDC-4E0A-B1A4-779B5EB37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35F2-3E97-40B5-81C0-74FEEA35E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2EDD-89CA-42C6-A072-A0B2BEF91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729C-6281-4DB7-9CCF-1E68A250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DA108F-E111-4E08-BD61-BB62795F125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a sample powerpoint document which is used to test indexing power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ipla</dc:creator>
  <dc:description/>
  <dc:language>en-US</dc:language>
  <cp:lastModifiedBy>cipla</cp:lastModifiedBy>
  <cp:revision>0</cp:revision>
  <dc:subject/>
  <dc:title>GROOMING</dc:title>
</cp:coreProperties>
</file>